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7105650" cy="10231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0F2E-C5F1-4E0C-A429-05345260E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508E-2A19-42D2-90EC-2D929253E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203C-A46A-4319-BF3C-0E4CAE4A0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D855-F50E-433F-9383-920478C67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FBB6-663E-4F7D-A570-672589899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F7CF-163B-4D43-9467-51511A77B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059F-82D8-475D-9DE0-01DA6199B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7AF2-44D5-4FBC-A3F2-5CF1690C4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3FF4-2829-45C7-88C7-99AFBC641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6714-D4B5-47F7-9AF4-BFB2429DF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FA7D-F39A-43A6-A7E8-AB653BE5A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6BD5-0DC5-4312-99B3-FA8917870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DAA9C-2487-4B31-942D-38EB26EFBA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33520" y="914400"/>
            <a:ext cx="5805360" cy="77724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564520" y="9067680"/>
            <a:ext cx="76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bb. 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9T18:39:21Z</dcterms:created>
  <dc:creator>Dorothee&amp;Lukas&amp;André Bönsch</dc:creator>
  <dc:description/>
  <dc:language>en-US</dc:language>
  <cp:lastModifiedBy>Deutscher Bundestag</cp:lastModifiedBy>
  <cp:lastPrinted>2002-01-10T13:53:14Z</cp:lastPrinted>
  <dcterms:modified xsi:type="dcterms:W3CDTF">2002-01-15T09:24:37Z</dcterms:modified>
  <cp:revision>3</cp:revision>
  <dc:subject/>
  <dc:title>Kein Folientitel</dc:title>
</cp:coreProperties>
</file>