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718300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ED2CE-5BB7-4916-BD4B-79915A5553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FB9FE-94E1-4832-AE28-E9377E4380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0B1AE-A883-4FF4-9746-DCB7DEBAE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B790C-4079-4A69-9334-8FB367FDBF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0FF1E-F5ED-4ACF-BEC8-90D88F049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D16B1-6DA8-4DDF-9796-D18FA8558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EA883-4C0A-41FE-B6D5-AB7B6F5B9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E7006-26C7-45DC-BE2B-66DB9FDD4E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212F3-1985-4040-95AD-D4CC5FD47D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94930-D5EB-48DB-9C9D-B7B2C018C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C29C7-AC1B-4FB1-A6DA-2C49EF3E63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D1643-8DCC-4BFA-8F86-251345B438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72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5480" indent="-2030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100160" indent="-2732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401840" indent="-2858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04560" y="6757920"/>
            <a:ext cx="1066680" cy="1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9220320" y="6757920"/>
            <a:ext cx="380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D2C5-1324-42AB-AF2F-98920BF6F2C1}" type="slidenum">
              <a:rPr b="0" lang="en-US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832960" y="6553080"/>
            <a:ext cx="660240" cy="30492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41" h="21600">
                <a:moveTo>
                  <a:pt x="0" y="0"/>
                </a:moveTo>
                <a:lnTo>
                  <a:pt x="46741" y="0"/>
                </a:lnTo>
                <a:lnTo>
                  <a:pt x="46741" y="21600"/>
                </a:lnTo>
                <a:lnTo>
                  <a:pt x="0" y="21600"/>
                </a:lnTo>
                <a:close/>
              </a:path>
              <a:path fill="lightenLess" w="46741" h="21600">
                <a:moveTo>
                  <a:pt x="0" y="0"/>
                </a:moveTo>
                <a:lnTo>
                  <a:pt x="46741" y="0"/>
                </a:lnTo>
                <a:lnTo>
                  <a:pt x="45341" y="1400"/>
                </a:lnTo>
                <a:lnTo>
                  <a:pt x="1400" y="1400"/>
                </a:lnTo>
                <a:close/>
              </a:path>
              <a:path fill="darken" w="46741" h="21600">
                <a:moveTo>
                  <a:pt x="46741" y="0"/>
                </a:moveTo>
                <a:lnTo>
                  <a:pt x="46741" y="21600"/>
                </a:lnTo>
                <a:lnTo>
                  <a:pt x="45341" y="20200"/>
                </a:lnTo>
                <a:lnTo>
                  <a:pt x="45341" y="1400"/>
                </a:lnTo>
                <a:close/>
              </a:path>
              <a:path fill="darkenLess" w="46741" h="21600">
                <a:moveTo>
                  <a:pt x="46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1" y="20200"/>
                </a:lnTo>
                <a:close/>
              </a:path>
              <a:path fill="lighten" w="46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41" h="21600">
                <a:moveTo>
                  <a:pt x="16364" y="10800"/>
                </a:moveTo>
                <a:lnTo>
                  <a:pt x="30377" y="3794"/>
                </a:lnTo>
                <a:lnTo>
                  <a:pt x="3037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883764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1192320" cy="106668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76520" y="304920"/>
            <a:ext cx="7848360" cy="99036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KfW-weis" descr=""/>
          <p:cNvPicPr/>
          <p:nvPr/>
        </p:nvPicPr>
        <p:blipFill>
          <a:blip r:embed="rId2"/>
          <a:stretch/>
        </p:blipFill>
        <p:spPr>
          <a:xfrm>
            <a:off x="571680" y="361800"/>
            <a:ext cx="784080" cy="339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380880" y="6364440"/>
            <a:ext cx="9149040" cy="328320"/>
          </a:xfrm>
          <a:custGeom>
            <a:avLst/>
            <a:gdLst/>
            <a:ahLst/>
            <a:rect l="l" t="t" r="r" b="b"/>
            <a:pathLst>
              <a:path w="5736" h="207">
                <a:moveTo>
                  <a:pt x="25" y="0"/>
                </a:moveTo>
                <a:lnTo>
                  <a:pt x="21" y="0"/>
                </a:lnTo>
                <a:lnTo>
                  <a:pt x="17" y="2"/>
                </a:lnTo>
                <a:lnTo>
                  <a:pt x="15" y="2"/>
                </a:lnTo>
                <a:lnTo>
                  <a:pt x="11" y="4"/>
                </a:lnTo>
                <a:lnTo>
                  <a:pt x="9" y="6"/>
                </a:lnTo>
                <a:lnTo>
                  <a:pt x="5" y="8"/>
                </a:lnTo>
                <a:lnTo>
                  <a:pt x="3" y="10"/>
                </a:lnTo>
                <a:lnTo>
                  <a:pt x="2" y="14"/>
                </a:lnTo>
                <a:lnTo>
                  <a:pt x="2" y="16"/>
                </a:lnTo>
                <a:lnTo>
                  <a:pt x="0" y="19"/>
                </a:lnTo>
                <a:lnTo>
                  <a:pt x="0" y="21"/>
                </a:lnTo>
                <a:lnTo>
                  <a:pt x="0" y="25"/>
                </a:lnTo>
                <a:lnTo>
                  <a:pt x="0" y="180"/>
                </a:lnTo>
                <a:lnTo>
                  <a:pt x="0" y="184"/>
                </a:lnTo>
                <a:lnTo>
                  <a:pt x="0" y="188"/>
                </a:lnTo>
                <a:lnTo>
                  <a:pt x="2" y="192"/>
                </a:lnTo>
                <a:lnTo>
                  <a:pt x="2" y="194"/>
                </a:lnTo>
                <a:lnTo>
                  <a:pt x="3" y="196"/>
                </a:lnTo>
                <a:lnTo>
                  <a:pt x="5" y="200"/>
                </a:lnTo>
                <a:lnTo>
                  <a:pt x="9" y="201"/>
                </a:lnTo>
                <a:lnTo>
                  <a:pt x="11" y="203"/>
                </a:lnTo>
                <a:lnTo>
                  <a:pt x="15" y="203"/>
                </a:lnTo>
                <a:lnTo>
                  <a:pt x="17" y="205"/>
                </a:lnTo>
                <a:lnTo>
                  <a:pt x="21" y="205"/>
                </a:lnTo>
                <a:lnTo>
                  <a:pt x="25" y="207"/>
                </a:lnTo>
                <a:lnTo>
                  <a:pt x="5711" y="207"/>
                </a:lnTo>
                <a:lnTo>
                  <a:pt x="5715" y="205"/>
                </a:lnTo>
                <a:lnTo>
                  <a:pt x="5719" y="205"/>
                </a:lnTo>
                <a:lnTo>
                  <a:pt x="5721" y="203"/>
                </a:lnTo>
                <a:lnTo>
                  <a:pt x="5725" y="203"/>
                </a:lnTo>
                <a:lnTo>
                  <a:pt x="5727" y="201"/>
                </a:lnTo>
                <a:lnTo>
                  <a:pt x="5731" y="200"/>
                </a:lnTo>
                <a:lnTo>
                  <a:pt x="5733" y="196"/>
                </a:lnTo>
                <a:lnTo>
                  <a:pt x="5734" y="194"/>
                </a:lnTo>
                <a:lnTo>
                  <a:pt x="5734" y="192"/>
                </a:lnTo>
                <a:lnTo>
                  <a:pt x="5736" y="188"/>
                </a:lnTo>
                <a:lnTo>
                  <a:pt x="5736" y="184"/>
                </a:lnTo>
                <a:lnTo>
                  <a:pt x="5736" y="180"/>
                </a:lnTo>
                <a:lnTo>
                  <a:pt x="5736" y="25"/>
                </a:lnTo>
                <a:lnTo>
                  <a:pt x="5736" y="21"/>
                </a:lnTo>
                <a:lnTo>
                  <a:pt x="5736" y="19"/>
                </a:lnTo>
                <a:lnTo>
                  <a:pt x="5734" y="16"/>
                </a:lnTo>
                <a:lnTo>
                  <a:pt x="5734" y="14"/>
                </a:lnTo>
                <a:lnTo>
                  <a:pt x="5733" y="10"/>
                </a:lnTo>
                <a:lnTo>
                  <a:pt x="5731" y="8"/>
                </a:lnTo>
                <a:lnTo>
                  <a:pt x="5727" y="6"/>
                </a:lnTo>
                <a:lnTo>
                  <a:pt x="5725" y="4"/>
                </a:lnTo>
                <a:lnTo>
                  <a:pt x="5721" y="2"/>
                </a:lnTo>
                <a:lnTo>
                  <a:pt x="5719" y="2"/>
                </a:lnTo>
                <a:lnTo>
                  <a:pt x="5715" y="0"/>
                </a:lnTo>
                <a:lnTo>
                  <a:pt x="5711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1c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5080" y="228600"/>
            <a:ext cx="9340560" cy="640080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44000" bIns="144000" anchor="t">
            <a:noAutofit/>
          </a:bodyPr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2244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2692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1600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1676160"/>
            <a:ext cx="74678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Dr. Norbert Irsch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Kreditanstalt für Wiederaufbau, Frankfurt am Main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80880"/>
            <a:ext cx="9067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itzung der Enquete-Kommission „Globalisierung der Weltwirtschaft“ am 26.06.2000 in Berl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1752480" y="1676520"/>
            <a:ext cx="7696440" cy="44193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Mögliches Szenario zur Zukunft der Finanzierung kleiner mittelständischer Unternehmen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752480" y="1676520"/>
            <a:ext cx="762012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ixkosten der Kreditvergabe und geringe Transparenz de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asel verstärkt potenzielle Nachteile fü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kleine Unternehmen sind relativ unattraktiv für die Fremdfinanzierung durch Ban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ie direkte Eigen- oder Fremdmittelbeschaffung auf dem Kapitalmarkt ist für kmU generell nahezu ausgeschlo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Probleme für km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weniger Anbieter einer langfristigen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steigende Kosten der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B88E9-2C91-47CE-A5C2-F38222066FDE}" type="slidenum">
              <a:t>10</a:t>
            </a:fld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ßnahmen zur Zukunftssicherung der Bankendurchleitu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1587600" y="236232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enkung der Transaktionskosten durch den Einsatz von Informations- und Kommunikationstechnologie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587600" y="3429000"/>
            <a:ext cx="793728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risikoorientierte Margengestal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587600" y="434340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Entlastung der Kreditinstitute bei Risiko und Eigenkapitalunterleg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D25AC-C082-4157-8A08-280BC2A534DC}" type="slidenum">
              <a:t>11</a:t>
            </a:fld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br>
              <a:rPr sz="23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az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600200" y="3048120"/>
            <a:ext cx="793764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Zugang zur klassischen Fremdfinanzierung wird für kmU wahrscheinlich erschw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600200" y="16002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wachsender Wettbewerbsdruck mit Folgen für die Kreditvergabe an kmU in Zukunft auch für Sparkassen und den Genossenschaftssektor zu erwar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600200" y="4114800"/>
            <a:ext cx="792468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novierung der Mittelstandsförd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0200" y="48006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uch Mittelstand ist geforder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kzeptanz des Ratings, steigende Transparenz, vermehrte Nutzung von Beteiligungsfinanzier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07E5E-0503-4A0D-A29A-8DE0983A091B}" type="slidenum">
              <a:t>12</a:t>
            </a:fld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e Mittelstandsförderung der KfW 1999 auf einen Blick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117880"/>
            <a:ext cx="8686800" cy="27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Zusagen über 12,5 Mrd € für kleine und mittlere Unterne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Bei kleinen und mittleren Unternehmen wurden Investitione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über 21 Mrd € mitfinanziert. Mit den Vorhaben wurden 1 Mio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Arbeitsplätze gesichert und 75.000 neu gescha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ie KfW ist die bedeutendste Förderbank für den Mittelstand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utsch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6BA67-8BA1-4A1C-87E1-78661AE78DCF}" type="slidenum">
              <a:t>2</a:t>
            </a:fld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99880" y="1371600"/>
          <a:ext cx="9294840" cy="46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371600"/>
                    <a:ext cx="9294840" cy="46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Bankenorientierung der Finanzieru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34320" y="586728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lle: Deutsche Bundesbank, Monatsbericht 1/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FD9C0-460A-49D4-BE5D-70D52B71A01B}" type="slidenum">
              <a:t>3</a:t>
            </a:fld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Zusagevolumen und Zahl der Kreditzusagen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den KfW-Programmen für den Mittelstand 1991 - 1999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6480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7120" y="51516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7120" y="4775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7120" y="43689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7120" y="3983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4440" y="36068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4440" y="32306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4440" y="2844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4440" y="2455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4440" y="20908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4440" y="16956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1876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460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15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970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57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526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781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036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2908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82288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823240" y="4981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823240" y="44388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823240" y="389556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823240" y="3343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823240" y="28036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823240" y="2254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823240" y="1701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717640" y="6141960"/>
            <a:ext cx="122400" cy="120600"/>
            <a:chOff x="2717640" y="6141960"/>
            <a:chExt cx="122400" cy="120600"/>
          </a:xfrm>
        </p:grpSpPr>
        <p:sp>
          <p:nvSpPr>
            <p:cNvPr id="124" name=""/>
            <p:cNvSpPr/>
            <p:nvPr/>
          </p:nvSpPr>
          <p:spPr>
            <a:xfrm>
              <a:off x="2717640" y="614196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17640" y="614664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17640" y="614988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17640" y="615636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17640" y="616284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17640" y="616572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17640" y="617220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17640" y="617868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17640" y="618156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17640" y="618660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17640" y="619272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17640" y="619596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17640" y="620244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17640" y="620856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17640" y="621180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17640" y="621828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17640" y="622296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17640" y="622620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17640" y="623268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17640" y="623880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17640" y="624204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17640" y="624852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17640" y="625464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17640" y="625788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717640" y="6141960"/>
            <a:ext cx="125640" cy="1238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75e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93320" y="6086520"/>
            <a:ext cx="233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Zusagevolumen (Mio D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73520" y="6086520"/>
            <a:ext cx="160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usagen (Anzah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410080" y="6157800"/>
            <a:ext cx="122400" cy="120600"/>
            <a:chOff x="5410080" y="6157800"/>
            <a:chExt cx="122400" cy="120600"/>
          </a:xfrm>
        </p:grpSpPr>
        <p:sp>
          <p:nvSpPr>
            <p:cNvPr id="152" name=""/>
            <p:cNvSpPr/>
            <p:nvPr/>
          </p:nvSpPr>
          <p:spPr>
            <a:xfrm>
              <a:off x="5410080" y="615780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10080" y="616248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10080" y="616572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10080" y="617220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10080" y="617868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618156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0080" y="618804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619452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10080" y="619740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10080" y="620244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0080" y="620856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10080" y="621180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10080" y="621828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622440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10080" y="622764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10080" y="623412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10080" y="623880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10080" y="624204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10080" y="624852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10080" y="625464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10080" y="625788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10080" y="626436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10080" y="627048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10080" y="627372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410080" y="6157800"/>
            <a:ext cx="125640" cy="1238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-207360" y="3214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Mio 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8982360" y="3214080"/>
            <a:ext cx="11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za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30480" y="52768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30480" y="489420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30480" y="451008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30480" y="41259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30480" y="37432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30480" y="336060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30480" y="29782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30480" y="25923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30480" y="22096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30480" y="182880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292400" y="3139920"/>
            <a:ext cx="328320" cy="2519640"/>
            <a:chOff x="1292400" y="3139920"/>
            <a:chExt cx="328320" cy="2519640"/>
          </a:xfrm>
        </p:grpSpPr>
        <p:grpSp>
          <p:nvGrpSpPr>
            <p:cNvPr id="192" name=""/>
            <p:cNvGrpSpPr/>
            <p:nvPr/>
          </p:nvGrpSpPr>
          <p:grpSpPr>
            <a:xfrm>
              <a:off x="1292400" y="3139920"/>
              <a:ext cx="328320" cy="2519280"/>
              <a:chOff x="1292400" y="3139920"/>
              <a:chExt cx="328320" cy="2519280"/>
            </a:xfrm>
          </p:grpSpPr>
          <p:sp>
            <p:nvSpPr>
              <p:cNvPr id="193" name=""/>
              <p:cNvSpPr/>
              <p:nvPr/>
            </p:nvSpPr>
            <p:spPr>
              <a:xfrm>
                <a:off x="1292400" y="3139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292400" y="3178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92400" y="3220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2400" y="32587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92400" y="3297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292400" y="333612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92400" y="337788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292400" y="3415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92400" y="3453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92400" y="3495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92400" y="3534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92400" y="35730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92400" y="36144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92400" y="365328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292400" y="3690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292400" y="37288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292400" y="3770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292400" y="38091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292400" y="38480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92400" y="3889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292400" y="39283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292400" y="3965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292400" y="4007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92400" y="4046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92400" y="4084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92400" y="4123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92400" y="4165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292400" y="42037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92400" y="4241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292400" y="4282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292400" y="4321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292400" y="4360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292400" y="4398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292400" y="4440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292400" y="447912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292400" y="45162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92400" y="4557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92400" y="45964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92400" y="46353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292400" y="4677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92400" y="4715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292400" y="47545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292400" y="47916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292400" y="4833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292400" y="48722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292400" y="4910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92400" y="4952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292400" y="4991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292400" y="50299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292400" y="5069880"/>
                <a:ext cx="328320" cy="38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292400" y="51087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292400" y="5147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292400" y="5186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292400" y="5227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292400" y="5266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292400" y="53053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92400" y="53452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92400" y="5383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292400" y="54226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292400" y="5464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292400" y="5502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292400" y="55418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292400" y="5580360"/>
                <a:ext cx="32832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92400" y="56206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1292400" y="3139920"/>
              <a:ext cx="328320" cy="2519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133720" y="3462480"/>
            <a:ext cx="328320" cy="2197080"/>
            <a:chOff x="2133720" y="3462480"/>
            <a:chExt cx="328320" cy="2197080"/>
          </a:xfrm>
        </p:grpSpPr>
        <p:grpSp>
          <p:nvGrpSpPr>
            <p:cNvPr id="259" name=""/>
            <p:cNvGrpSpPr/>
            <p:nvPr/>
          </p:nvGrpSpPr>
          <p:grpSpPr>
            <a:xfrm>
              <a:off x="2133720" y="3462480"/>
              <a:ext cx="328320" cy="2196720"/>
              <a:chOff x="2133720" y="3462480"/>
              <a:chExt cx="328320" cy="2196720"/>
            </a:xfrm>
          </p:grpSpPr>
          <p:sp>
            <p:nvSpPr>
              <p:cNvPr id="260" name=""/>
              <p:cNvSpPr/>
              <p:nvPr/>
            </p:nvSpPr>
            <p:spPr>
              <a:xfrm>
                <a:off x="2133720" y="34624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33720" y="34956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33720" y="3531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33720" y="35640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133720" y="36003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33720" y="3633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33720" y="36687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133720" y="37018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133720" y="3737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133720" y="37706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133720" y="38066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133720" y="3839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133720" y="38754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133720" y="3908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33720" y="3944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133720" y="3977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133720" y="4010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133720" y="4046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133720" y="40788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133720" y="4115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133720" y="4147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133720" y="4183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133720" y="4216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133720" y="4252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133720" y="42854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133720" y="43214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133720" y="43542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133720" y="43902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33720" y="44233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133720" y="4458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133720" y="44920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133720" y="45280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133720" y="45608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3720" y="45936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33720" y="4629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133720" y="46627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133720" y="46983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133720" y="47314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133720" y="47674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3720" y="48002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133720" y="4836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33720" y="48690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3720" y="49050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133720" y="4938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33720" y="4973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133720" y="50068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133720" y="5042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133720" y="507564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133720" y="510876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133720" y="5144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133720" y="5177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133720" y="52131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133720" y="52462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133720" y="5282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133720" y="5315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133720" y="5351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133720" y="53838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133720" y="54198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133720" y="5452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133720" y="5488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133720" y="5521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133720" y="5557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133720" y="559044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133720" y="56260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133720" y="3462480"/>
              <a:ext cx="328320" cy="219708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938320" y="3710160"/>
            <a:ext cx="338400" cy="1955520"/>
            <a:chOff x="2938320" y="3710160"/>
            <a:chExt cx="338400" cy="1955520"/>
          </a:xfrm>
        </p:grpSpPr>
        <p:grpSp>
          <p:nvGrpSpPr>
            <p:cNvPr id="326" name=""/>
            <p:cNvGrpSpPr/>
            <p:nvPr/>
          </p:nvGrpSpPr>
          <p:grpSpPr>
            <a:xfrm>
              <a:off x="2943360" y="3710160"/>
              <a:ext cx="333360" cy="1955160"/>
              <a:chOff x="2943360" y="3710160"/>
              <a:chExt cx="333360" cy="1955160"/>
            </a:xfrm>
          </p:grpSpPr>
          <p:sp>
            <p:nvSpPr>
              <p:cNvPr id="327" name=""/>
              <p:cNvSpPr/>
              <p:nvPr/>
            </p:nvSpPr>
            <p:spPr>
              <a:xfrm>
                <a:off x="2943360" y="371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943360" y="374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43360" y="376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943360" y="37998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943360" y="383148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943360" y="3864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943360" y="3894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943360" y="39247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943360" y="395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943360" y="3984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943360" y="401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943360" y="404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943360" y="40752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943360" y="41065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943360" y="413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943360" y="416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943360" y="41997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943360" y="422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43360" y="425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943360" y="4290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43360" y="4320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43360" y="435024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943360" y="43819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943360" y="44146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943360" y="4444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943360" y="44748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43360" y="4505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943360" y="4535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943360" y="4565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943360" y="4595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943360" y="462528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943360" y="4656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943360" y="46868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43360" y="4719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943360" y="4749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943360" y="478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943360" y="4809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943360" y="48402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943360" y="487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943360" y="49003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943360" y="4932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943360" y="49622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943360" y="4995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943360" y="50252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43360" y="5055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943360" y="50853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943360" y="5115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943360" y="5145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943360" y="51757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943360" y="5207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43360" y="52369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943360" y="527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943360" y="529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943360" y="533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943360" y="5360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943360" y="5390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943360" y="54205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943360" y="54504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943360" y="5482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943360" y="55123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943360" y="554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3360" y="55753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943360" y="56055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943360" y="56354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2938320" y="3710160"/>
              <a:ext cx="333360" cy="19555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773520" y="2959200"/>
            <a:ext cx="328680" cy="2700360"/>
            <a:chOff x="3773520" y="2959200"/>
            <a:chExt cx="328680" cy="2700360"/>
          </a:xfrm>
        </p:grpSpPr>
        <p:grpSp>
          <p:nvGrpSpPr>
            <p:cNvPr id="393" name=""/>
            <p:cNvGrpSpPr/>
            <p:nvPr/>
          </p:nvGrpSpPr>
          <p:grpSpPr>
            <a:xfrm>
              <a:off x="3773520" y="2959200"/>
              <a:ext cx="328680" cy="2700000"/>
              <a:chOff x="3773520" y="2959200"/>
              <a:chExt cx="328680" cy="2700000"/>
            </a:xfrm>
          </p:grpSpPr>
          <p:sp>
            <p:nvSpPr>
              <p:cNvPr id="394" name=""/>
              <p:cNvSpPr/>
              <p:nvPr/>
            </p:nvSpPr>
            <p:spPr>
              <a:xfrm>
                <a:off x="3773520" y="2959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773520" y="30006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773520" y="304380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773520" y="3085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773520" y="3126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773520" y="3171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773520" y="3211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773520" y="325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773520" y="3297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773520" y="33390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773520" y="3379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73520" y="3423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773520" y="3465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773520" y="3507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773520" y="35514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773520" y="3591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773520" y="3633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773520" y="3677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773520" y="371916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773520" y="3759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773520" y="3803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773520" y="384552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773520" y="388692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773520" y="39301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773520" y="39715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773520" y="4013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773520" y="4057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773520" y="409932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773520" y="41396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773520" y="4183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773520" y="4225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773520" y="426708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73520" y="43074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73520" y="4351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73520" y="43930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73520" y="4434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773520" y="447912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773520" y="4519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773520" y="4560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773520" y="4605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773520" y="4647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773520" y="46872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773520" y="4731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773520" y="47732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773520" y="48150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73520" y="48578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73520" y="4899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773520" y="49410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773520" y="49852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773520" y="502704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773520" y="506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773520" y="5111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773520" y="51530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773520" y="5194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73520" y="5237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773520" y="52794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773520" y="5320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773520" y="5365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773520" y="54072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773520" y="544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73520" y="5491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773520" y="5533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773520" y="5574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773520" y="56178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3773520" y="2959200"/>
              <a:ext cx="328680" cy="27003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599000" y="3600360"/>
            <a:ext cx="328680" cy="2059200"/>
            <a:chOff x="4599000" y="3600360"/>
            <a:chExt cx="328680" cy="2059200"/>
          </a:xfrm>
        </p:grpSpPr>
        <p:grpSp>
          <p:nvGrpSpPr>
            <p:cNvPr id="460" name=""/>
            <p:cNvGrpSpPr/>
            <p:nvPr/>
          </p:nvGrpSpPr>
          <p:grpSpPr>
            <a:xfrm>
              <a:off x="4599000" y="3600360"/>
              <a:ext cx="328680" cy="2058840"/>
              <a:chOff x="4599000" y="3600360"/>
              <a:chExt cx="328680" cy="2058840"/>
            </a:xfrm>
          </p:grpSpPr>
          <p:sp>
            <p:nvSpPr>
              <p:cNvPr id="461" name=""/>
              <p:cNvSpPr/>
              <p:nvPr/>
            </p:nvSpPr>
            <p:spPr>
              <a:xfrm>
                <a:off x="4599000" y="3600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599000" y="36331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99000" y="3663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599000" y="3696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599000" y="37288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599000" y="3759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599000" y="379188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99000" y="38264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599000" y="38566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599000" y="388944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9000" y="3922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599000" y="3955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599000" y="3985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99000" y="4018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599000" y="40518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599000" y="4081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599000" y="4115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599000" y="41479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599000" y="4178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599000" y="4210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599000" y="4243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599000" y="42739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599000" y="4307040"/>
                <a:ext cx="328680" cy="33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599000" y="43412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599000" y="43714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599000" y="44046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599000" y="4437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599000" y="44704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599000" y="4500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599000" y="4533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599000" y="45666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599000" y="4596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599000" y="4629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99000" y="46627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99000" y="4692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599000" y="47257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99000" y="475884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599000" y="478872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599000" y="4823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599000" y="48560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599000" y="4886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599000" y="49194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599000" y="4952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599000" y="49852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599000" y="5015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599000" y="5048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599000" y="50814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99000" y="5111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99000" y="5144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599000" y="51775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9000" y="5207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599000" y="52405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599000" y="5273640"/>
                <a:ext cx="32868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599000" y="5305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599000" y="5338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599000" y="5371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99000" y="5401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599000" y="543420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599000" y="5467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599000" y="55000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99000" y="5530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599000" y="5563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99000" y="5596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599000" y="5626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4599000" y="3600360"/>
              <a:ext cx="328680" cy="20592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5424480" y="2838600"/>
            <a:ext cx="328680" cy="2820960"/>
            <a:chOff x="5424480" y="2838600"/>
            <a:chExt cx="328680" cy="2820960"/>
          </a:xfrm>
        </p:grpSpPr>
        <p:grpSp>
          <p:nvGrpSpPr>
            <p:cNvPr id="527" name=""/>
            <p:cNvGrpSpPr/>
            <p:nvPr/>
          </p:nvGrpSpPr>
          <p:grpSpPr>
            <a:xfrm>
              <a:off x="5424480" y="2838600"/>
              <a:ext cx="328680" cy="2820600"/>
              <a:chOff x="5424480" y="2838600"/>
              <a:chExt cx="328680" cy="2820600"/>
            </a:xfrm>
          </p:grpSpPr>
          <p:sp>
            <p:nvSpPr>
              <p:cNvPr id="528" name=""/>
              <p:cNvSpPr/>
              <p:nvPr/>
            </p:nvSpPr>
            <p:spPr>
              <a:xfrm>
                <a:off x="5424480" y="28386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424480" y="28825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424480" y="29271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424480" y="2970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424480" y="301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424480" y="3059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424480" y="31032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424480" y="31467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424480" y="31906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24480" y="32353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24480" y="3278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424480" y="332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424480" y="33674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424480" y="341136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424480" y="34549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424480" y="3498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24480" y="35434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424480" y="3586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424480" y="3630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424480" y="3675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424480" y="37198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424480" y="37630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424480" y="380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424480" y="3851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424480" y="38962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424480" y="3939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24480" y="3983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424480" y="40280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424480" y="40712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424480" y="41155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24480" y="4159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424480" y="4204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424480" y="4247280"/>
                <a:ext cx="328680" cy="471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424480" y="4294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424480" y="4339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424480" y="4382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424480" y="44265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424480" y="447084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424480" y="45140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424480" y="4558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24480" y="460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424480" y="46476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424480" y="4690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424480" y="47350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424480" y="4779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424480" y="48236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24480" y="4866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424480" y="4911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424480" y="49557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424480" y="4998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424480" y="50432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424480" y="508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424480" y="5131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424480" y="517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424480" y="5219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424480" y="52639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424480" y="5306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424480" y="53514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424480" y="53956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424480" y="5439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24480" y="548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424480" y="5527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24480" y="55720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24480" y="56149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5424480" y="2838600"/>
              <a:ext cx="328680" cy="28209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6249960" y="2463840"/>
            <a:ext cx="333360" cy="3195720"/>
            <a:chOff x="6249960" y="2463840"/>
            <a:chExt cx="333360" cy="3195720"/>
          </a:xfrm>
        </p:grpSpPr>
        <p:grpSp>
          <p:nvGrpSpPr>
            <p:cNvPr id="594" name=""/>
            <p:cNvGrpSpPr/>
            <p:nvPr/>
          </p:nvGrpSpPr>
          <p:grpSpPr>
            <a:xfrm>
              <a:off x="6249960" y="2463840"/>
              <a:ext cx="333360" cy="3195360"/>
              <a:chOff x="6249960" y="2463840"/>
              <a:chExt cx="333360" cy="3195360"/>
            </a:xfrm>
          </p:grpSpPr>
          <p:sp>
            <p:nvSpPr>
              <p:cNvPr id="595" name=""/>
              <p:cNvSpPr/>
              <p:nvPr/>
            </p:nvSpPr>
            <p:spPr>
              <a:xfrm>
                <a:off x="6249960" y="24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249960" y="25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249960" y="2562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249960" y="26125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249960" y="2664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249960" y="27144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249960" y="27630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249960" y="2813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249960" y="28634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249960" y="2912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249960" y="296244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249960" y="3014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249960" y="3064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49960" y="3112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49960" y="316332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249960" y="3211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249960" y="32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249960" y="33109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249960" y="33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249960" y="34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49960" y="3462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249960" y="351324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249960" y="3561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249960" y="3611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249960" y="366084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249960" y="3713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249960" y="3762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249960" y="3812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249960" y="3861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249960" y="3911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249960" y="39618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249960" y="4010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249960" y="406080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249960" y="4112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249960" y="41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249960" y="4211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249960" y="4261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249960" y="4310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249960" y="43603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249960" y="44107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249960" y="4462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249960" y="4512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249960" y="4561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249960" y="4611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249960" y="4659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249960" y="4710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249960" y="475920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249960" y="48121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249960" y="4860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249960" y="49111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49960" y="4961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49960" y="5009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49960" y="5060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49960" y="51091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249960" y="51620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49960" y="5210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249960" y="5260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249960" y="5309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249960" y="5359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249960" y="5408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249960" y="545868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249960" y="55119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249960" y="55605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249960" y="56106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6249960" y="2463840"/>
              <a:ext cx="333360" cy="31957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7080120" y="2185920"/>
            <a:ext cx="328680" cy="3473640"/>
            <a:chOff x="7080120" y="2185920"/>
            <a:chExt cx="328680" cy="3473640"/>
          </a:xfrm>
        </p:grpSpPr>
        <p:grpSp>
          <p:nvGrpSpPr>
            <p:cNvPr id="661" name=""/>
            <p:cNvGrpSpPr/>
            <p:nvPr/>
          </p:nvGrpSpPr>
          <p:grpSpPr>
            <a:xfrm>
              <a:off x="7080120" y="2185920"/>
              <a:ext cx="328680" cy="3473280"/>
              <a:chOff x="7080120" y="2185920"/>
              <a:chExt cx="328680" cy="3473280"/>
            </a:xfrm>
          </p:grpSpPr>
          <p:sp>
            <p:nvSpPr>
              <p:cNvPr id="662" name=""/>
              <p:cNvSpPr/>
              <p:nvPr/>
            </p:nvSpPr>
            <p:spPr>
              <a:xfrm>
                <a:off x="7080120" y="21859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080120" y="22417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80120" y="229320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080120" y="234756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080120" y="2403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0120" y="245808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080120" y="2511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80120" y="2565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80120" y="262152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0120" y="2673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80120" y="2727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80120" y="27835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080120" y="28382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080120" y="28911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080120" y="29455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080120" y="30013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080120" y="30531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080120" y="3107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0120" y="3163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80120" y="32180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080120" y="32709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0120" y="3325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080120" y="33796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080120" y="34358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80120" y="34873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080120" y="35434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080120" y="35978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080120" y="365112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080120" y="37051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080120" y="37598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080120" y="38156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080120" y="38674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080120" y="39232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080120" y="39776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080120" y="40305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080120" y="40852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080120" y="41400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080120" y="41958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080120" y="42472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080120" y="43030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080120" y="435780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80120" y="4410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080120" y="44654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080120" y="45198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080120" y="4575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080120" y="4627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080120" y="46832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080120" y="4737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080120" y="4789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080120" y="48448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80120" y="48996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80120" y="49554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080120" y="5006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080120" y="50626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080120" y="51174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080120" y="51721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080120" y="52250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080120" y="52794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080120" y="53352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080120" y="53870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080120" y="5442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080120" y="54975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80120" y="55519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80120" y="5604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7080120" y="2185920"/>
              <a:ext cx="328680" cy="3473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123048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70000" y="56595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70000" y="52768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170000" y="489420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70000" y="451008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70000" y="41259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170000" y="37432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70000" y="336060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170000" y="29782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70000" y="25923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170000" y="22096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170000" y="182880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30480" y="56595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12304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20574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8828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7116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5370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3640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618984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70182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784368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867096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67096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609040" y="565956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609040" y="5111640"/>
            <a:ext cx="12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609040" y="45640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609040" y="40165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609040" y="347184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609040" y="29242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609040" y="23623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609040" y="182880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706400" y="2730600"/>
            <a:ext cx="328680" cy="2928960"/>
            <a:chOff x="1706400" y="2730600"/>
            <a:chExt cx="328680" cy="2928960"/>
          </a:xfrm>
        </p:grpSpPr>
        <p:grpSp>
          <p:nvGrpSpPr>
            <p:cNvPr id="760" name=""/>
            <p:cNvGrpSpPr/>
            <p:nvPr/>
          </p:nvGrpSpPr>
          <p:grpSpPr>
            <a:xfrm>
              <a:off x="1706400" y="2730600"/>
              <a:ext cx="328680" cy="2928960"/>
              <a:chOff x="1706400" y="2730600"/>
              <a:chExt cx="328680" cy="2928960"/>
            </a:xfrm>
          </p:grpSpPr>
          <p:sp>
            <p:nvSpPr>
              <p:cNvPr id="761" name=""/>
              <p:cNvSpPr/>
              <p:nvPr/>
            </p:nvSpPr>
            <p:spPr>
              <a:xfrm>
                <a:off x="1706400" y="2730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706400" y="2822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706400" y="291240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706400" y="3005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706400" y="30974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706400" y="3187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706400" y="327780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706400" y="33724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706400" y="3462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706400" y="35532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706400" y="36450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706400" y="37382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706400" y="3828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706400" y="3920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706400" y="401076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706400" y="4103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706400" y="4195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706400" y="4285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706400" y="437616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706400" y="4470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706400" y="4561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706400" y="46515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706400" y="474336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706400" y="4836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706400" y="49269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706400" y="5018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706400" y="510912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706400" y="52020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706400" y="529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706400" y="538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706400" y="54756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70640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>
              <a:off x="1706400" y="2730600"/>
              <a:ext cx="328680" cy="2928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532240" y="2906640"/>
            <a:ext cx="328320" cy="2752920"/>
            <a:chOff x="2532240" y="2906640"/>
            <a:chExt cx="328320" cy="2752920"/>
          </a:xfrm>
        </p:grpSpPr>
        <p:grpSp>
          <p:nvGrpSpPr>
            <p:cNvPr id="795" name=""/>
            <p:cNvGrpSpPr/>
            <p:nvPr/>
          </p:nvGrpSpPr>
          <p:grpSpPr>
            <a:xfrm>
              <a:off x="2532240" y="2906640"/>
              <a:ext cx="328320" cy="2752560"/>
              <a:chOff x="2532240" y="2906640"/>
              <a:chExt cx="328320" cy="2752560"/>
            </a:xfrm>
          </p:grpSpPr>
          <p:sp>
            <p:nvSpPr>
              <p:cNvPr id="796" name=""/>
              <p:cNvSpPr/>
              <p:nvPr/>
            </p:nvSpPr>
            <p:spPr>
              <a:xfrm>
                <a:off x="2532240" y="29066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532240" y="29926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532240" y="30772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532240" y="31658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532240" y="32508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532240" y="3336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532240" y="34210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532240" y="35103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532240" y="359496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32240" y="36806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532240" y="37656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532240" y="38541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32240" y="393876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32240" y="402480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532240" y="41094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532240" y="419832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532240" y="42832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532240" y="4368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532240" y="445356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532240" y="4542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532240" y="46270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532240" y="471276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532240" y="479772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532240" y="488664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532240" y="49712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532240" y="50572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532240" y="51418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532240" y="52304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532240" y="53154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532240" y="54010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532240" y="54856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532240" y="5574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>
              <a:off x="2532240" y="2906640"/>
              <a:ext cx="328320" cy="2752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357720" y="2863800"/>
            <a:ext cx="333360" cy="2795760"/>
            <a:chOff x="3357720" y="2863800"/>
            <a:chExt cx="333360" cy="2795760"/>
          </a:xfrm>
        </p:grpSpPr>
        <p:grpSp>
          <p:nvGrpSpPr>
            <p:cNvPr id="830" name=""/>
            <p:cNvGrpSpPr/>
            <p:nvPr/>
          </p:nvGrpSpPr>
          <p:grpSpPr>
            <a:xfrm>
              <a:off x="3357720" y="2863800"/>
              <a:ext cx="333360" cy="2795400"/>
              <a:chOff x="3357720" y="2863800"/>
              <a:chExt cx="333360" cy="2795400"/>
            </a:xfrm>
          </p:grpSpPr>
          <p:sp>
            <p:nvSpPr>
              <p:cNvPr id="831" name=""/>
              <p:cNvSpPr/>
              <p:nvPr/>
            </p:nvSpPr>
            <p:spPr>
              <a:xfrm>
                <a:off x="3357720" y="2863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357720" y="295092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357720" y="30355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357720" y="3124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357720" y="32119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357720" y="330084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57720" y="33854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357720" y="34743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357720" y="356184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357720" y="365076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357720" y="37353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357720" y="38239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357720" y="39114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357720" y="399888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357720" y="40852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357720" y="41727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357720" y="42613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357720" y="434880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357720" y="44348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357720" y="452232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357720" y="46112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357720" y="469872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357720" y="47847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57720" y="4872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57720" y="4961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57720" y="5048640"/>
                <a:ext cx="33336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357720" y="5133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357720" y="5222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357720" y="53096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357720" y="539820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357720" y="548280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357720" y="55720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3" name=""/>
            <p:cNvSpPr/>
            <p:nvPr/>
          </p:nvSpPr>
          <p:spPr>
            <a:xfrm>
              <a:off x="3357720" y="2863800"/>
              <a:ext cx="333360" cy="2795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4187880" y="2478240"/>
            <a:ext cx="328680" cy="3181320"/>
            <a:chOff x="4187880" y="2478240"/>
            <a:chExt cx="328680" cy="3181320"/>
          </a:xfrm>
        </p:grpSpPr>
        <p:grpSp>
          <p:nvGrpSpPr>
            <p:cNvPr id="865" name=""/>
            <p:cNvGrpSpPr/>
            <p:nvPr/>
          </p:nvGrpSpPr>
          <p:grpSpPr>
            <a:xfrm>
              <a:off x="4187880" y="2478240"/>
              <a:ext cx="328680" cy="3180960"/>
              <a:chOff x="4187880" y="2478240"/>
              <a:chExt cx="328680" cy="3180960"/>
            </a:xfrm>
          </p:grpSpPr>
          <p:sp>
            <p:nvSpPr>
              <p:cNvPr id="866" name=""/>
              <p:cNvSpPr/>
              <p:nvPr/>
            </p:nvSpPr>
            <p:spPr>
              <a:xfrm>
                <a:off x="4187880" y="24782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187880" y="2576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187880" y="2675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187880" y="277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187880" y="28738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187880" y="2975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187880" y="3074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187880" y="31730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187880" y="3273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187880" y="33724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187880" y="3471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187880" y="3570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187880" y="36694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187880" y="37710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187880" y="3870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187880" y="39690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187880" y="406800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187880" y="41684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187880" y="4267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187880" y="43660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187880" y="44650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187880" y="456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187880" y="4665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87880" y="47646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87880" y="4863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187880" y="4962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187880" y="50626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187880" y="5162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187880" y="52606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1878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1878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1878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4187880" y="2478240"/>
              <a:ext cx="328680" cy="31813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5013360" y="3241800"/>
            <a:ext cx="328680" cy="2417760"/>
            <a:chOff x="5013360" y="3241800"/>
            <a:chExt cx="328680" cy="2417760"/>
          </a:xfrm>
        </p:grpSpPr>
        <p:grpSp>
          <p:nvGrpSpPr>
            <p:cNvPr id="900" name=""/>
            <p:cNvGrpSpPr/>
            <p:nvPr/>
          </p:nvGrpSpPr>
          <p:grpSpPr>
            <a:xfrm>
              <a:off x="5013360" y="3241800"/>
              <a:ext cx="328680" cy="2417400"/>
              <a:chOff x="5013360" y="3241800"/>
              <a:chExt cx="328680" cy="2417400"/>
            </a:xfrm>
          </p:grpSpPr>
          <p:sp>
            <p:nvSpPr>
              <p:cNvPr id="901" name=""/>
              <p:cNvSpPr/>
              <p:nvPr/>
            </p:nvSpPr>
            <p:spPr>
              <a:xfrm>
                <a:off x="5013360" y="3241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013360" y="331596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013360" y="33937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13360" y="346824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13360" y="35456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013360" y="362016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013360" y="36961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013360" y="377064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013360" y="38455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013360" y="39229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013360" y="39974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013360" y="40734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013360" y="41479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013360" y="42253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013360" y="42998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013360" y="4375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013360" y="445032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013360" y="45252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013360" y="46026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13360" y="46771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013360" y="475452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013360" y="48276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013360" y="490500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013360" y="49798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013360" y="50544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013360" y="513180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013360" y="520488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013360" y="52822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013360" y="535680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013360" y="543456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013360" y="550872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013360" y="55850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>
              <a:off x="5013360" y="3241800"/>
              <a:ext cx="328680" cy="2417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5838840" y="2774880"/>
            <a:ext cx="328680" cy="2884680"/>
            <a:chOff x="5838840" y="2774880"/>
            <a:chExt cx="328680" cy="2884680"/>
          </a:xfrm>
        </p:grpSpPr>
        <p:grpSp>
          <p:nvGrpSpPr>
            <p:cNvPr id="935" name=""/>
            <p:cNvGrpSpPr/>
            <p:nvPr/>
          </p:nvGrpSpPr>
          <p:grpSpPr>
            <a:xfrm>
              <a:off x="5838840" y="2774880"/>
              <a:ext cx="328680" cy="2884680"/>
              <a:chOff x="5838840" y="2774880"/>
              <a:chExt cx="328680" cy="2884680"/>
            </a:xfrm>
          </p:grpSpPr>
          <p:sp>
            <p:nvSpPr>
              <p:cNvPr id="936" name=""/>
              <p:cNvSpPr/>
              <p:nvPr/>
            </p:nvSpPr>
            <p:spPr>
              <a:xfrm>
                <a:off x="5838840" y="277488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38840" y="286488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38840" y="295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838840" y="304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838840" y="31359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838840" y="32263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838840" y="33138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838840" y="3405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838840" y="349596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838840" y="358596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838840" y="36748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838840" y="3765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838840" y="385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838840" y="394740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838840" y="40348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838840" y="41266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838840" y="421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838840" y="4307400"/>
                <a:ext cx="32868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838840" y="43963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838840" y="44866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838840" y="45781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838840" y="466884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838840" y="47563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838840" y="4847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838840" y="49381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838840" y="502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838840" y="5117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838840" y="52077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838840" y="52995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838840" y="538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838840" y="54774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83884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5838840" y="2774880"/>
              <a:ext cx="328680" cy="28846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664320" y="2595600"/>
            <a:ext cx="333360" cy="3063960"/>
            <a:chOff x="6664320" y="2595600"/>
            <a:chExt cx="333360" cy="3063960"/>
          </a:xfrm>
        </p:grpSpPr>
        <p:grpSp>
          <p:nvGrpSpPr>
            <p:cNvPr id="970" name=""/>
            <p:cNvGrpSpPr/>
            <p:nvPr/>
          </p:nvGrpSpPr>
          <p:grpSpPr>
            <a:xfrm>
              <a:off x="6664320" y="2595600"/>
              <a:ext cx="333360" cy="3063600"/>
              <a:chOff x="6664320" y="2595600"/>
              <a:chExt cx="333360" cy="3063600"/>
            </a:xfrm>
          </p:grpSpPr>
          <p:sp>
            <p:nvSpPr>
              <p:cNvPr id="971" name=""/>
              <p:cNvSpPr/>
              <p:nvPr/>
            </p:nvSpPr>
            <p:spPr>
              <a:xfrm>
                <a:off x="6664320" y="2595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664320" y="26917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664320" y="2789280"/>
                <a:ext cx="33336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664320" y="28821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664320" y="29782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664320" y="30744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664320" y="31719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664320" y="32652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664320" y="33609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664320" y="34574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664320" y="35532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664320" y="36507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664320" y="37440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664320" y="38401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664320" y="39358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664320" y="40334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664320" y="41266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664320" y="42228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664320" y="43189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664320" y="44146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664320" y="45122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664320" y="46058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664320" y="4701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664320" y="47977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664320" y="489384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664320" y="499140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664320" y="50846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664320" y="51804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664320" y="52765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664320" y="537408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664320" y="54673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664320" y="556308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" name=""/>
            <p:cNvSpPr/>
            <p:nvPr/>
          </p:nvSpPr>
          <p:spPr>
            <a:xfrm>
              <a:off x="6664320" y="2595600"/>
              <a:ext cx="333360" cy="3063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7494480" y="2496960"/>
            <a:ext cx="328680" cy="3162600"/>
            <a:chOff x="7494480" y="2496960"/>
            <a:chExt cx="328680" cy="3162600"/>
          </a:xfrm>
        </p:grpSpPr>
        <p:grpSp>
          <p:nvGrpSpPr>
            <p:cNvPr id="1005" name=""/>
            <p:cNvGrpSpPr/>
            <p:nvPr/>
          </p:nvGrpSpPr>
          <p:grpSpPr>
            <a:xfrm>
              <a:off x="7494480" y="2496960"/>
              <a:ext cx="328680" cy="3162240"/>
              <a:chOff x="7494480" y="2496960"/>
              <a:chExt cx="328680" cy="3162240"/>
            </a:xfrm>
          </p:grpSpPr>
          <p:sp>
            <p:nvSpPr>
              <p:cNvPr id="1006" name=""/>
              <p:cNvSpPr/>
              <p:nvPr/>
            </p:nvSpPr>
            <p:spPr>
              <a:xfrm>
                <a:off x="7494480" y="249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494480" y="2595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494480" y="2694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494480" y="279504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494480" y="2894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494480" y="2993040"/>
                <a:ext cx="32868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494480" y="30888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494480" y="3187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494480" y="3286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494480" y="3385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494480" y="34844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494480" y="358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494480" y="3683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494480" y="3782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494480" y="3881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494480" y="3980520"/>
                <a:ext cx="32868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494480" y="4076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494480" y="4175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494480" y="42746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494480" y="4375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494480" y="4473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494480" y="457272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494480" y="4671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494480" y="4770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494480" y="4869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494480" y="49683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494480" y="5067360"/>
                <a:ext cx="32868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494480" y="5164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494480" y="5263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944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4944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4944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>
              <a:off x="7494480" y="2496960"/>
              <a:ext cx="328680" cy="31626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8319960" y="1806480"/>
            <a:ext cx="328680" cy="3850920"/>
            <a:chOff x="8319960" y="1806480"/>
            <a:chExt cx="328680" cy="3850920"/>
          </a:xfrm>
        </p:grpSpPr>
        <p:grpSp>
          <p:nvGrpSpPr>
            <p:cNvPr id="1040" name=""/>
            <p:cNvGrpSpPr/>
            <p:nvPr/>
          </p:nvGrpSpPr>
          <p:grpSpPr>
            <a:xfrm>
              <a:off x="8319960" y="1806480"/>
              <a:ext cx="328680" cy="3850200"/>
              <a:chOff x="8319960" y="1806480"/>
              <a:chExt cx="328680" cy="3850200"/>
            </a:xfrm>
          </p:grpSpPr>
          <p:sp>
            <p:nvSpPr>
              <p:cNvPr id="1041" name=""/>
              <p:cNvSpPr/>
              <p:nvPr/>
            </p:nvSpPr>
            <p:spPr>
              <a:xfrm>
                <a:off x="8319960" y="1806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319960" y="1925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319960" y="20440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8319960" y="216828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319960" y="22896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319960" y="24087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319960" y="2527560"/>
                <a:ext cx="328680" cy="1234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319960" y="26514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319960" y="277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319960" y="28893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319960" y="30081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319960" y="313236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319960" y="32508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319960" y="3369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8319960" y="34887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319960" y="3612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8319960" y="373212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8319960" y="385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8319960" y="39693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319960" y="40935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319960" y="421236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8319960" y="43336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8319960" y="44528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8319960" y="457704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8319960" y="4695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8319960" y="4814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8319960" y="49334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319960" y="50576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319960" y="51764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319960" y="529560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319960" y="54136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319960" y="55378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3" name=""/>
            <p:cNvSpPr/>
            <p:nvPr/>
          </p:nvSpPr>
          <p:spPr>
            <a:xfrm>
              <a:off x="8319960" y="1806480"/>
              <a:ext cx="328680" cy="3850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1231920" y="1457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171440" y="14590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33520" y="1339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1193760" y="1447560"/>
            <a:ext cx="746460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86644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7905600" y="1371600"/>
            <a:ext cx="328680" cy="4287600"/>
            <a:chOff x="7905600" y="1371600"/>
            <a:chExt cx="328680" cy="4287600"/>
          </a:xfrm>
        </p:grpSpPr>
        <p:grpSp>
          <p:nvGrpSpPr>
            <p:cNvPr id="1080" name=""/>
            <p:cNvGrpSpPr/>
            <p:nvPr/>
          </p:nvGrpSpPr>
          <p:grpSpPr>
            <a:xfrm>
              <a:off x="7905600" y="1371600"/>
              <a:ext cx="328680" cy="4287240"/>
              <a:chOff x="7905600" y="1371600"/>
              <a:chExt cx="328680" cy="4287240"/>
            </a:xfrm>
          </p:grpSpPr>
          <p:sp>
            <p:nvSpPr>
              <p:cNvPr id="1081" name=""/>
              <p:cNvSpPr/>
              <p:nvPr/>
            </p:nvSpPr>
            <p:spPr>
              <a:xfrm>
                <a:off x="7905600" y="13716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905600" y="143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905600" y="15037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905600" y="1575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905600" y="1641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905600" y="17071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905600" y="1773720"/>
                <a:ext cx="328680" cy="62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905600" y="18363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905600" y="19080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905600" y="197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905600" y="20404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905600" y="2106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905600" y="2172240"/>
                <a:ext cx="328680" cy="71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905600" y="224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905600" y="23101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905600" y="23760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905600" y="24418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905600" y="25084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905600" y="2579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905600" y="2645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905600" y="27115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905600" y="27774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905600" y="2844000"/>
                <a:ext cx="328680" cy="68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905600" y="2912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905600" y="29782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905600" y="30448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905600" y="3110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905600" y="31766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905600" y="3247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905600" y="33141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905600" y="338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905600" y="3446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905600" y="35125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905600" y="35838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905600" y="365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905600" y="37162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905600" y="37821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905600" y="38534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905600" y="3919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905600" y="3985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905600" y="4051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905600" y="4117680"/>
                <a:ext cx="328680" cy="68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905600" y="4186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5600" y="42526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5600" y="43185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905600" y="43844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905600" y="44510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905600" y="45223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905600" y="4588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905600" y="465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905600" y="4720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905600" y="47865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905600" y="485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905600" y="492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905600" y="4989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905600" y="50558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905600" y="51224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905600" y="51937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905600" y="5259600"/>
                <a:ext cx="328680" cy="63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905600" y="532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905600" y="5389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905600" y="54550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905600" y="55263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905600" y="559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5" name=""/>
            <p:cNvSpPr/>
            <p:nvPr/>
          </p:nvSpPr>
          <p:spPr>
            <a:xfrm>
              <a:off x="7905600" y="1371600"/>
              <a:ext cx="328680" cy="4287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514C2-6483-4D92-BAD3-35496DD2C709}" type="slidenum">
              <a:t>4</a:t>
            </a:fld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hl der Kreditzusagen und Zusagevolumen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7" name="" descr=""/>
          <p:cNvPicPr/>
          <p:nvPr/>
        </p:nvPicPr>
        <p:blipFill>
          <a:blip r:embed="rId1"/>
          <a:stretch/>
        </p:blipFill>
        <p:spPr>
          <a:xfrm>
            <a:off x="1295280" y="1147680"/>
            <a:ext cx="8313840" cy="5176800"/>
          </a:xfrm>
          <a:prstGeom prst="rect">
            <a:avLst/>
          </a:prstGeom>
          <a:ln w="0">
            <a:noFill/>
          </a:ln>
        </p:spPr>
      </p:pic>
      <p:sp>
        <p:nvSpPr>
          <p:cNvPr id="1148" name=""/>
          <p:cNvSpPr/>
          <p:nvPr/>
        </p:nvSpPr>
        <p:spPr>
          <a:xfrm rot="16217400">
            <a:off x="84960" y="28861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ex 1991 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E82DB-FCF0-4D17-905A-A0FE2F1D50E2}" type="slidenum">
              <a:t>5</a:t>
            </a:fld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usagevolumen in TDM pro Zusage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1"/>
          <a:stretch/>
        </p:blipFill>
        <p:spPr>
          <a:xfrm>
            <a:off x="1208160" y="1150920"/>
            <a:ext cx="8316720" cy="5173560"/>
          </a:xfrm>
          <a:prstGeom prst="rect">
            <a:avLst/>
          </a:prstGeom>
          <a:ln w="0">
            <a:noFill/>
          </a:ln>
        </p:spPr>
      </p:pic>
      <p:sp>
        <p:nvSpPr>
          <p:cNvPr id="1151" name=""/>
          <p:cNvSpPr/>
          <p:nvPr/>
        </p:nvSpPr>
        <p:spPr>
          <a:xfrm>
            <a:off x="8604360" y="5715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AD169-F03A-4B10-A549-9F3D138BEB95}" type="slidenum">
              <a:t>6</a:t>
            </a:fld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eile der durchleitenden Banken am Zusagevolumen der KfW-Programme für den Mittelsta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554200" y="50180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554200" y="46324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554200" y="424656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554200" y="385920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554200" y="34750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554200" y="308772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554200" y="270180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554200" y="23144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554200" y="193032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54200" y="154296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00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554200" y="1542960"/>
            <a:ext cx="1800" cy="3861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484360" y="54039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484360" y="50180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484360" y="46324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484360" y="42465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484360" y="385920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484360" y="34750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484360" y="308772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484360" y="270180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484360" y="23144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484360" y="193032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484360" y="154296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554200" y="5403960"/>
            <a:ext cx="6707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255420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32986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044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78944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553572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628020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702612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7770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85168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926136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58240" y="43005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358240" y="27702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58240" y="18194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642040" y="39355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8763480" y="46116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591280" y="22129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763480" y="3127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565720" y="1638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8763480" y="18367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102040" y="527364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973520" y="48880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973520" y="45021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973520" y="41162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973520" y="37288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973520" y="3343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973520" y="29574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973520" y="25718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973520" y="21844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973520" y="1800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847520" y="14130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350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0952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41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58604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3323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076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8227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567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83134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0579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762200" y="6108840"/>
            <a:ext cx="141120" cy="141120"/>
          </a:xfrm>
          <a:prstGeom prst="rect">
            <a:avLst/>
          </a:prstGeom>
          <a:solidFill>
            <a:srgbClr val="3333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010600" y="604836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ban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392640" y="6108840"/>
            <a:ext cx="141120" cy="141120"/>
          </a:xfrm>
          <a:prstGeom prst="rect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642840" y="6048360"/>
            <a:ext cx="182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arkassen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21320" y="6108840"/>
            <a:ext cx="141120" cy="1411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773680" y="6048360"/>
            <a:ext cx="23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ossenschafts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211960" y="6108840"/>
            <a:ext cx="141480" cy="1411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459640" y="6048360"/>
            <a:ext cx="88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nsti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8788320" y="5791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EA575-73AD-4814-9E86-A7F3505DFDD7}" type="slidenum">
              <a:t>7</a:t>
            </a:fld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gangslage im Bankensek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888920" y="2285640"/>
            <a:ext cx="7553160" cy="6858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Ertragskraf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890720" y="3124080"/>
            <a:ext cx="755316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ohe Personalkos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890720" y="3733920"/>
            <a:ext cx="7553160" cy="5331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ichtes Zweigstellennet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889280" y="4419720"/>
            <a:ext cx="755316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Konzent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0AFB4-A293-4C44-AD78-ECD87556BEBD}" type="slidenum">
              <a:t>8</a:t>
            </a:fld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ntwicklungen im Finanzierungsmark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79372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 anchorCtr="1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eregulierung, Globalisierung, Shareholder-valu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Renditeerwartungen und Konzentrationswel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447920" y="1523880"/>
            <a:ext cx="7937280" cy="16002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Fortschritte in der Informations- und Telekommunikationstechnologi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Markttransparenz, sinkende Marktzutritts-kosten, neue Produkte, intensiverer Wettbewer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454040" y="4952880"/>
            <a:ext cx="7937640" cy="12477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U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Katalysator, aufnahmefähigere Kapitalmärk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58D0F-5378-4C20-AB07-A237823B634F}" type="slidenum">
              <a:t>9</a:t>
            </a:fld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09:22:33Z</dcterms:created>
  <dc:creator/>
  <dc:description/>
  <dc:language>en-US</dc:language>
  <cp:lastModifiedBy>Klaus Braun</cp:lastModifiedBy>
  <cp:lastPrinted>2000-10-30T09:09:29Z</cp:lastPrinted>
  <dcterms:modified xsi:type="dcterms:W3CDTF">2000-10-30T15:09:45Z</dcterms:modified>
  <cp:revision>47</cp:revision>
  <dc:subject>Mittelstandsfinanzierung/Enquete</dc:subject>
  <dc:title>Vortrag Dr. Irsch 26.06.2000</dc:title>
</cp:coreProperties>
</file>