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816-4293-46BD-ADBD-043B9BB4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553-206A-49D9-9746-601E5A05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DC6F-D057-4464-852A-D60A4BA8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B248-0386-455D-8E48-6479EE0B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A67-8089-47ED-8331-CD590283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476-B6E3-48E4-8743-A2BE608A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67C-4B33-4243-9AA7-059F1BA9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060-DCB0-4B45-9F82-F69F49E3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757-A7F3-40E1-8760-133B903F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223-255C-4819-92A3-FDDF73C0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F31-E6D8-4D88-A9E6-BC218735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CE9-82C3-4FA2-A117-263E0B9D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AC52-834B-4706-9B78-F12936979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78000" y="609480"/>
            <a:ext cx="7713360" cy="5218920"/>
            <a:chOff x="1278000" y="609480"/>
            <a:chExt cx="7713360" cy="5218920"/>
          </a:xfrm>
        </p:grpSpPr>
        <p:sp>
          <p:nvSpPr>
            <p:cNvPr id="42" name=""/>
            <p:cNvSpPr/>
            <p:nvPr/>
          </p:nvSpPr>
          <p:spPr>
            <a:xfrm>
              <a:off x="1282680" y="609480"/>
              <a:ext cx="70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3333cc"/>
                  </a:solidFill>
                  <a:latin typeface="Arial"/>
                </a:rPr>
                <a:t>Auswirkungen von Feinstäub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94920" y="1228680"/>
              <a:ext cx="7621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14720" y="12286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Schweiz, 199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78000" y="1917000"/>
              <a:ext cx="6525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3.8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vorzeitige Todesfälle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38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Fälle chron. Bronchitis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,6 Mill.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Asthma-Anfä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6920" y="3636360"/>
              <a:ext cx="7273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791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Arbeitsunfähigkeit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2.9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im Krankenha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durch Atemwegs-/Herzerkrankung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0520" y="35002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0520" y="52210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9240" y="5460120"/>
              <a:ext cx="33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Bundesärztekammer 08.07.9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836640" y="430200"/>
            <a:ext cx="8598600" cy="5911200"/>
            <a:chOff x="836640" y="430200"/>
            <a:chExt cx="8598600" cy="5911200"/>
          </a:xfrm>
        </p:grpSpPr>
        <p:sp>
          <p:nvSpPr>
            <p:cNvPr id="52" name=""/>
            <p:cNvSpPr/>
            <p:nvPr/>
          </p:nvSpPr>
          <p:spPr>
            <a:xfrm>
              <a:off x="1432080" y="100656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5120" y="1676520"/>
              <a:ext cx="8520120" cy="46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90 %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     der Stäube in Atmosphäre &lt;10 µm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P.J. CRUTZEN, 1994) stammen aus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anthropogenen Verbrennungsprozessen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87,5 %    PCDD/F an Partikeln &lt; 2 µm angelagert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 (EPA, 1994) diese bestens alveolengängig!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100 %    Bioverfügbarkeit dieser Substanzen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C.S. NESSEL et al, 199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430200"/>
              <a:ext cx="82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Staubpartikel, halogenierte Kohlenwasserstoff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1219320"/>
              <a:ext cx="8001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767800" cy="466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287000" y="762120"/>
            <a:ext cx="7781040" cy="4800600"/>
            <a:chOff x="1287000" y="762120"/>
            <a:chExt cx="7781040" cy="4800600"/>
          </a:xfrm>
        </p:grpSpPr>
        <p:sp>
          <p:nvSpPr>
            <p:cNvPr id="60" name=""/>
            <p:cNvSpPr/>
            <p:nvPr/>
          </p:nvSpPr>
          <p:spPr>
            <a:xfrm>
              <a:off x="1292400" y="762120"/>
              <a:ext cx="609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PCBs  -  chronische Belast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14479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87000" y="1829160"/>
              <a:ext cx="77810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euromuskuläre Schwäche bei Kindern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Fein, 198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isual recognition memory reduziert (Säuglinge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8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Kurzzeitgedächtnis vermindert (Kinder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9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Hypoton, Hyporeflexie, Hypothyreose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ROGAN, 198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iedrig chlorierte PCBs passieren Plaz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457236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55627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807732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8:01:58Z</dcterms:created>
  <dc:creator>Dorothee&amp;Lukas&amp;André Bönsch</dc:creator>
  <dc:description/>
  <dc:language>en-US</dc:language>
  <cp:lastModifiedBy>User</cp:lastModifiedBy>
  <dcterms:modified xsi:type="dcterms:W3CDTF">2002-01-14T16:01:39Z</dcterms:modified>
  <cp:revision>3</cp:revision>
  <dc:subject/>
  <dc:title>Kein Folientitel</dc:title>
</cp:coreProperties>
</file>