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907588" cy="6858000"/>
  <p:notesSz cx="6718300" cy="9842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82502-16F4-4D7C-8365-1ED4D1606E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587600" y="395136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B0628-5117-44B5-ABAE-CDFB702C3A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5488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C7309-2AEE-4513-ACFB-2C7244DD21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2714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9552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5876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2714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9552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2F992-6B05-4B1D-A130-41309DA74A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752120" y="355320"/>
            <a:ext cx="7734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25499-C5C2-4258-AA28-9486CC82A4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65488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587600" y="395136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65488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714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552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5876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2714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552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A151A-923E-45F0-BD7C-9E5C2B0DC7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B8925-984D-42FC-81A8-B0D6D7DD50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800E4-2D71-46DD-9E81-66036C754C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752120" y="355320"/>
            <a:ext cx="7734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9E4BD-1B09-4F9F-BDA1-1FF2D5C95A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D5EC1-01CC-49C0-B532-8EF1B46A9D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5488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62FE0-8948-41AD-A141-B49E964F90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22926-AF08-49D6-A754-977958AE77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728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25480" indent="-2030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100160" indent="-2732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401840" indent="-2858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4018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4018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04560" y="6757920"/>
            <a:ext cx="1066680" cy="1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9220320" y="6757920"/>
            <a:ext cx="38088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DC81C-0EF5-40E6-87AF-C3D5B4B50025}" type="slidenum">
              <a:rPr b="0" lang="en-US" sz="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832960" y="6553080"/>
            <a:ext cx="660240" cy="30492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6741" h="21600">
                <a:moveTo>
                  <a:pt x="0" y="0"/>
                </a:moveTo>
                <a:lnTo>
                  <a:pt x="46741" y="0"/>
                </a:lnTo>
                <a:lnTo>
                  <a:pt x="46741" y="21600"/>
                </a:lnTo>
                <a:lnTo>
                  <a:pt x="0" y="21600"/>
                </a:lnTo>
                <a:close/>
              </a:path>
              <a:path fill="lightenLess" w="46741" h="21600">
                <a:moveTo>
                  <a:pt x="0" y="0"/>
                </a:moveTo>
                <a:lnTo>
                  <a:pt x="46741" y="0"/>
                </a:lnTo>
                <a:lnTo>
                  <a:pt x="45341" y="1400"/>
                </a:lnTo>
                <a:lnTo>
                  <a:pt x="1400" y="1400"/>
                </a:lnTo>
                <a:close/>
              </a:path>
              <a:path fill="darken" w="46741" h="21600">
                <a:moveTo>
                  <a:pt x="46741" y="0"/>
                </a:moveTo>
                <a:lnTo>
                  <a:pt x="46741" y="21600"/>
                </a:lnTo>
                <a:lnTo>
                  <a:pt x="45341" y="20200"/>
                </a:lnTo>
                <a:lnTo>
                  <a:pt x="45341" y="1400"/>
                </a:lnTo>
                <a:close/>
              </a:path>
              <a:path fill="darkenLess" w="46741" h="21600">
                <a:moveTo>
                  <a:pt x="46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1" y="20200"/>
                </a:lnTo>
                <a:close/>
              </a:path>
              <a:path fill="lighten" w="46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41" h="21600">
                <a:moveTo>
                  <a:pt x="16364" y="10800"/>
                </a:moveTo>
                <a:lnTo>
                  <a:pt x="30377" y="3794"/>
                </a:lnTo>
                <a:lnTo>
                  <a:pt x="30377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>
            <a:off x="8837640" y="6550200"/>
            <a:ext cx="660240" cy="30456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6796" h="21600">
                <a:moveTo>
                  <a:pt x="0" y="0"/>
                </a:moveTo>
                <a:lnTo>
                  <a:pt x="46796" y="0"/>
                </a:lnTo>
                <a:lnTo>
                  <a:pt x="46796" y="21600"/>
                </a:lnTo>
                <a:lnTo>
                  <a:pt x="0" y="21600"/>
                </a:lnTo>
                <a:close/>
              </a:path>
              <a:path fill="lightenLess" w="46796" h="21600">
                <a:moveTo>
                  <a:pt x="0" y="0"/>
                </a:moveTo>
                <a:lnTo>
                  <a:pt x="46796" y="0"/>
                </a:lnTo>
                <a:lnTo>
                  <a:pt x="45396" y="1400"/>
                </a:lnTo>
                <a:lnTo>
                  <a:pt x="1400" y="1400"/>
                </a:lnTo>
                <a:close/>
              </a:path>
              <a:path fill="darken" w="46796" h="21600">
                <a:moveTo>
                  <a:pt x="46796" y="0"/>
                </a:moveTo>
                <a:lnTo>
                  <a:pt x="46796" y="21600"/>
                </a:lnTo>
                <a:lnTo>
                  <a:pt x="45396" y="20200"/>
                </a:lnTo>
                <a:lnTo>
                  <a:pt x="45396" y="1400"/>
                </a:lnTo>
                <a:close/>
              </a:path>
              <a:path fill="darkenLess" w="46796" h="21600">
                <a:moveTo>
                  <a:pt x="46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6" y="20200"/>
                </a:lnTo>
                <a:close/>
              </a:path>
              <a:path fill="lighten" w="46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6" h="21600">
                <a:moveTo>
                  <a:pt x="16391" y="10800"/>
                </a:moveTo>
                <a:lnTo>
                  <a:pt x="30404" y="3794"/>
                </a:lnTo>
                <a:lnTo>
                  <a:pt x="3040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1192320" cy="1066680"/>
          </a:xfrm>
          <a:prstGeom prst="rect">
            <a:avLst/>
          </a:prstGeom>
          <a:solidFill>
            <a:srgbClr val="0028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676520" y="304920"/>
            <a:ext cx="7848360" cy="990360"/>
          </a:xfrm>
          <a:prstGeom prst="rect">
            <a:avLst/>
          </a:prstGeom>
          <a:solidFill>
            <a:srgbClr val="0028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" name="KfW-weis" descr=""/>
          <p:cNvPicPr/>
          <p:nvPr/>
        </p:nvPicPr>
        <p:blipFill>
          <a:blip r:embed="rId2"/>
          <a:stretch/>
        </p:blipFill>
        <p:spPr>
          <a:xfrm>
            <a:off x="571680" y="361800"/>
            <a:ext cx="784080" cy="33984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380880" y="6364440"/>
            <a:ext cx="9149040" cy="328320"/>
          </a:xfrm>
          <a:custGeom>
            <a:avLst/>
            <a:gdLst/>
            <a:ahLst/>
            <a:rect l="l" t="t" r="r" b="b"/>
            <a:pathLst>
              <a:path w="5736" h="207">
                <a:moveTo>
                  <a:pt x="25" y="0"/>
                </a:moveTo>
                <a:lnTo>
                  <a:pt x="21" y="0"/>
                </a:lnTo>
                <a:lnTo>
                  <a:pt x="17" y="2"/>
                </a:lnTo>
                <a:lnTo>
                  <a:pt x="15" y="2"/>
                </a:lnTo>
                <a:lnTo>
                  <a:pt x="11" y="4"/>
                </a:lnTo>
                <a:lnTo>
                  <a:pt x="9" y="6"/>
                </a:lnTo>
                <a:lnTo>
                  <a:pt x="5" y="8"/>
                </a:lnTo>
                <a:lnTo>
                  <a:pt x="3" y="10"/>
                </a:lnTo>
                <a:lnTo>
                  <a:pt x="2" y="14"/>
                </a:lnTo>
                <a:lnTo>
                  <a:pt x="2" y="16"/>
                </a:lnTo>
                <a:lnTo>
                  <a:pt x="0" y="19"/>
                </a:lnTo>
                <a:lnTo>
                  <a:pt x="0" y="21"/>
                </a:lnTo>
                <a:lnTo>
                  <a:pt x="0" y="25"/>
                </a:lnTo>
                <a:lnTo>
                  <a:pt x="0" y="180"/>
                </a:lnTo>
                <a:lnTo>
                  <a:pt x="0" y="184"/>
                </a:lnTo>
                <a:lnTo>
                  <a:pt x="0" y="188"/>
                </a:lnTo>
                <a:lnTo>
                  <a:pt x="2" y="192"/>
                </a:lnTo>
                <a:lnTo>
                  <a:pt x="2" y="194"/>
                </a:lnTo>
                <a:lnTo>
                  <a:pt x="3" y="196"/>
                </a:lnTo>
                <a:lnTo>
                  <a:pt x="5" y="200"/>
                </a:lnTo>
                <a:lnTo>
                  <a:pt x="9" y="201"/>
                </a:lnTo>
                <a:lnTo>
                  <a:pt x="11" y="203"/>
                </a:lnTo>
                <a:lnTo>
                  <a:pt x="15" y="203"/>
                </a:lnTo>
                <a:lnTo>
                  <a:pt x="17" y="205"/>
                </a:lnTo>
                <a:lnTo>
                  <a:pt x="21" y="205"/>
                </a:lnTo>
                <a:lnTo>
                  <a:pt x="25" y="207"/>
                </a:lnTo>
                <a:lnTo>
                  <a:pt x="5711" y="207"/>
                </a:lnTo>
                <a:lnTo>
                  <a:pt x="5715" y="205"/>
                </a:lnTo>
                <a:lnTo>
                  <a:pt x="5719" y="205"/>
                </a:lnTo>
                <a:lnTo>
                  <a:pt x="5721" y="203"/>
                </a:lnTo>
                <a:lnTo>
                  <a:pt x="5725" y="203"/>
                </a:lnTo>
                <a:lnTo>
                  <a:pt x="5727" y="201"/>
                </a:lnTo>
                <a:lnTo>
                  <a:pt x="5731" y="200"/>
                </a:lnTo>
                <a:lnTo>
                  <a:pt x="5733" y="196"/>
                </a:lnTo>
                <a:lnTo>
                  <a:pt x="5734" y="194"/>
                </a:lnTo>
                <a:lnTo>
                  <a:pt x="5734" y="192"/>
                </a:lnTo>
                <a:lnTo>
                  <a:pt x="5736" y="188"/>
                </a:lnTo>
                <a:lnTo>
                  <a:pt x="5736" y="184"/>
                </a:lnTo>
                <a:lnTo>
                  <a:pt x="5736" y="180"/>
                </a:lnTo>
                <a:lnTo>
                  <a:pt x="5736" y="25"/>
                </a:lnTo>
                <a:lnTo>
                  <a:pt x="5736" y="21"/>
                </a:lnTo>
                <a:lnTo>
                  <a:pt x="5736" y="19"/>
                </a:lnTo>
                <a:lnTo>
                  <a:pt x="5734" y="16"/>
                </a:lnTo>
                <a:lnTo>
                  <a:pt x="5734" y="14"/>
                </a:lnTo>
                <a:lnTo>
                  <a:pt x="5733" y="10"/>
                </a:lnTo>
                <a:lnTo>
                  <a:pt x="5731" y="8"/>
                </a:lnTo>
                <a:lnTo>
                  <a:pt x="5727" y="6"/>
                </a:lnTo>
                <a:lnTo>
                  <a:pt x="5725" y="4"/>
                </a:lnTo>
                <a:lnTo>
                  <a:pt x="5721" y="2"/>
                </a:lnTo>
                <a:lnTo>
                  <a:pt x="5719" y="2"/>
                </a:lnTo>
                <a:lnTo>
                  <a:pt x="5715" y="0"/>
                </a:lnTo>
                <a:lnTo>
                  <a:pt x="5711" y="0"/>
                </a:lnTo>
                <a:lnTo>
                  <a:pt x="25" y="0"/>
                </a:lnTo>
                <a:close/>
              </a:path>
            </a:pathLst>
          </a:custGeom>
          <a:solidFill>
            <a:srgbClr val="001c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35080" y="228600"/>
            <a:ext cx="9340560" cy="6400800"/>
          </a:xfrm>
          <a:prstGeom prst="rect">
            <a:avLst/>
          </a:prstGeom>
          <a:solidFill>
            <a:srgbClr val="0028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44000" bIns="144000" anchor="t">
            <a:noAutofit/>
          </a:bodyPr>
          <a:p>
            <a:pPr algn="ctr"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7760" indent="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22440" algn="ctr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826920" algn="ctr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16000" algn="ctr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1160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1160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1676160"/>
            <a:ext cx="746784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Veränderungen in der Finanzierung des Mittelstandes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300" spc="-1" strike="noStrike">
                <a:solidFill>
                  <a:srgbClr val="ffcc00"/>
                </a:solidFill>
                <a:latin typeface="Arial"/>
              </a:rPr>
              <a:t>Dr. Norbert Irsch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300" spc="-1" strike="noStrike">
                <a:solidFill>
                  <a:srgbClr val="ffcc00"/>
                </a:solidFill>
                <a:latin typeface="Arial"/>
              </a:rPr>
              <a:t>Kreditanstalt für Wiederaufbau, Frankfurt am Main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380880"/>
            <a:ext cx="9067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Sitzung der Enquete-Kommission „Globalisierung der Weltwirtschaft“ am 26.06.2000 in Berl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/>
          <p:nvPr/>
        </p:nvSpPr>
        <p:spPr>
          <a:xfrm>
            <a:off x="1752480" y="1676520"/>
            <a:ext cx="7696440" cy="441936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Mögliches Szenario zur Zukunft der Finanzierung kleiner mittelständischer Unternehmen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1752480" y="1676520"/>
            <a:ext cx="7620120" cy="45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Fixkosten der Kreditvergabe und geringe Transparenz der k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Basel verstärkt potenzielle Nachteile für k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kleine Unternehmen sind relativ unattraktiv für die Fremdfinanzierung durch Ban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die direkte Eigen- oder Fremdmittelbeschaffung auf dem Kapitalmarkt ist für kmU generell nahezu ausgeschlos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buClr>
                <a:srgbClr val="ffff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Probleme für kmU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buClr>
                <a:srgbClr val="ffffcc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weniger Anbieter einer langfristigen Fremdfinanz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buClr>
                <a:srgbClr val="ffffcc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steigende Kosten der Fremdfinanz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23DAE-E642-4EFC-8BEA-FEB80541C3B7}" type="slidenum">
              <a:t>10</a:t>
            </a:fld>
          </a:p>
        </p:txBody>
      </p:sp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ßnahmen zur Zukunftssicherung der Bankendurchleitu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1587600" y="2362320"/>
            <a:ext cx="7937280" cy="8380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Senkung der Transaktionskosten durch den Einsatz von Informations- und Kommunikationstechnologie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1587600" y="3429000"/>
            <a:ext cx="7937280" cy="6094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risikoorientierte Margengestalt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587600" y="4343400"/>
            <a:ext cx="7937280" cy="8380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Entlastung der Kreditinstitute bei Risiko und Eigenkapitalunterleg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C0F03-F67A-4497-84CC-269D126AA2A1}" type="slidenum">
              <a:t>11</a:t>
            </a:fld>
          </a:p>
        </p:txBody>
      </p:sp>
    </p:spTree>
  </p:cSld>
  <p:transition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Veränderungen in der Finanzierung des Mittelstandes</a:t>
            </a:r>
            <a:br>
              <a:rPr sz="23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azi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1600200" y="3048120"/>
            <a:ext cx="7937640" cy="8380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Zugang zur klassischen Fremdfinanzierung wird für kmU wahrscheinlich erschwe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600200" y="1600200"/>
            <a:ext cx="7924680" cy="12193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wachsender Wettbewerbsdruck mit Folgen für die Kreditvergabe an kmU in Zukunft auch für Sparkassen und den Genossenschaftssektor zu erwar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600200" y="4114800"/>
            <a:ext cx="7924680" cy="5335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novierung der Mittelstandsförder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600200" y="4800600"/>
            <a:ext cx="7924680" cy="12193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Auch Mittelstand ist gefordert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Akzeptanz des Ratings, steigende Transparenz, vermehrte Nutzung von Beteiligungsfinanzieru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23194-7227-4218-A9D8-3762CA0D07B0}" type="slidenum">
              <a:t>12</a:t>
            </a:fld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ie Mittelstandsförderung der KfW 1999 auf einen Blick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2117880"/>
            <a:ext cx="8686800" cy="27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spcAft>
                <a:spcPts val="1874"/>
              </a:spcAft>
              <a:buClr>
                <a:srgbClr val="003366"/>
              </a:buClr>
              <a:buSzPct val="80000"/>
              <a:buFont typeface="Monotype Sorts" charset="2"/>
              <a:buChar char="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Zusagen über 12,5 Mrd € für kleine und mittlere Unterneh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spcAft>
                <a:spcPts val="1874"/>
              </a:spcAft>
              <a:buClr>
                <a:srgbClr val="003366"/>
              </a:buClr>
              <a:buSzPct val="80000"/>
              <a:buFont typeface="Monotype Sorts" charset="2"/>
              <a:buChar char="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Bei kleinen und mittleren Unternehmen wurden Investitionen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über 21 Mrd € mitfinanziert. Mit den Vorhaben wurden 1 Mio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Arbeitsplätze gesichert und 75.000 neu geschaff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spcAft>
                <a:spcPts val="1874"/>
              </a:spcAft>
              <a:buClr>
                <a:srgbClr val="003366"/>
              </a:buClr>
              <a:buSzPct val="80000"/>
              <a:buFont typeface="Monotype Sorts" charset="2"/>
              <a:buChar char="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Die KfW ist die bedeutendste Förderbank für den Mittelstand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utsch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BDC34-F549-4889-B7D4-B5F9A7431C03}" type="slidenum">
              <a:t>2</a:t>
            </a:fld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299880" y="1371600"/>
          <a:ext cx="9294840" cy="465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" y="1371600"/>
                    <a:ext cx="9294840" cy="465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Bankenorientierung der Finanzierung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934320" y="5867280"/>
            <a:ext cx="266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elle: Deutsche Bundesbank, Monatsbericht 1/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A5642-BBF0-4C73-8B00-86B030CDE85A}" type="slidenum">
              <a:t>3</a:t>
            </a:fld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Zusagevolumen und Zahl der Kreditzusagen 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den KfW-Programmen für den Mittelstand 1991 - 1999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64800" y="5537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7120" y="515160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7120" y="477504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7120" y="436896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7120" y="398304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4440" y="360684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4440" y="323064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4440" y="28447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4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4440" y="24559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6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4440" y="209088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8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4440" y="169560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1876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4604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7152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9700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2572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5264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7812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0360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02908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822880" y="5537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823240" y="49816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823240" y="443880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823240" y="389556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5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823240" y="33433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823240" y="280368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823240" y="22543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823240" y="17017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5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717640" y="6141960"/>
            <a:ext cx="122400" cy="120600"/>
            <a:chOff x="2717640" y="6141960"/>
            <a:chExt cx="122400" cy="120600"/>
          </a:xfrm>
        </p:grpSpPr>
        <p:sp>
          <p:nvSpPr>
            <p:cNvPr id="124" name=""/>
            <p:cNvSpPr/>
            <p:nvPr/>
          </p:nvSpPr>
          <p:spPr>
            <a:xfrm>
              <a:off x="2717640" y="6141960"/>
              <a:ext cx="122400" cy="4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717640" y="6146640"/>
              <a:ext cx="122400" cy="3240"/>
            </a:xfrm>
            <a:prstGeom prst="rect">
              <a:avLst/>
            </a:prstGeom>
            <a:solidFill>
              <a:srgbClr val="b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717640" y="6149880"/>
              <a:ext cx="122400" cy="6480"/>
            </a:xfrm>
            <a:prstGeom prst="rect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17640" y="6156360"/>
              <a:ext cx="122400" cy="648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717640" y="6162840"/>
              <a:ext cx="122400" cy="2880"/>
            </a:xfrm>
            <a:prstGeom prst="rect">
              <a:avLst/>
            </a:prstGeom>
            <a:solidFill>
              <a:srgbClr val="ac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717640" y="6165720"/>
              <a:ext cx="122400" cy="6480"/>
            </a:xfrm>
            <a:prstGeom prst="rect">
              <a:avLst/>
            </a:pr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17640" y="6172200"/>
              <a:ext cx="122400" cy="64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717640" y="6178680"/>
              <a:ext cx="122400" cy="2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717640" y="6181560"/>
              <a:ext cx="122400" cy="50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17640" y="6186600"/>
              <a:ext cx="122400" cy="61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717640" y="6192720"/>
              <a:ext cx="122400" cy="32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717640" y="6195960"/>
              <a:ext cx="122400" cy="648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717640" y="6202440"/>
              <a:ext cx="122400" cy="6120"/>
            </a:xfrm>
            <a:prstGeom prst="rect">
              <a:avLst/>
            </a:prstGeom>
            <a:solidFill>
              <a:srgbClr val="87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717640" y="6208560"/>
              <a:ext cx="122400" cy="3240"/>
            </a:xfrm>
            <a:prstGeom prst="rect">
              <a:avLst/>
            </a:prstGeom>
            <a:solidFill>
              <a:srgbClr val="8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717640" y="6211800"/>
              <a:ext cx="122400" cy="64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717640" y="6218280"/>
              <a:ext cx="122400" cy="4680"/>
            </a:xfrm>
            <a:prstGeom prst="rect">
              <a:avLst/>
            </a:prstGeom>
            <a:solidFill>
              <a:srgbClr val="747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717640" y="6222960"/>
              <a:ext cx="122400" cy="324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17640" y="6226200"/>
              <a:ext cx="122400" cy="6480"/>
            </a:xfrm>
            <a:prstGeom prst="rect">
              <a:avLst/>
            </a:prstGeom>
            <a:solidFill>
              <a:srgbClr val="69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17640" y="6232680"/>
              <a:ext cx="122400" cy="6120"/>
            </a:xfrm>
            <a:prstGeom prst="rect">
              <a:avLst/>
            </a:prstGeom>
            <a:solidFill>
              <a:srgbClr val="636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717640" y="6238800"/>
              <a:ext cx="122400" cy="3240"/>
            </a:xfrm>
            <a:prstGeom prst="rect">
              <a:avLst/>
            </a:pr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17640" y="6242040"/>
              <a:ext cx="122400" cy="6480"/>
            </a:xfrm>
            <a:prstGeom prst="rect">
              <a:avLst/>
            </a:prstGeom>
            <a:solidFill>
              <a:srgbClr val="5b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17640" y="6248520"/>
              <a:ext cx="122400" cy="6120"/>
            </a:xfrm>
            <a:prstGeom prst="rect">
              <a:avLst/>
            </a:prstGeom>
            <a:solidFill>
              <a:srgbClr val="57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17640" y="6254640"/>
              <a:ext cx="122400" cy="3240"/>
            </a:xfrm>
            <a:prstGeom prst="rect">
              <a:avLst/>
            </a:pr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17640" y="6257880"/>
              <a:ext cx="122400" cy="4680"/>
            </a:xfrm>
            <a:prstGeom prst="rect">
              <a:avLst/>
            </a:prstGeom>
            <a:solidFill>
              <a:srgbClr val="535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717640" y="6141960"/>
            <a:ext cx="125640" cy="12384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175e5e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93320" y="6086520"/>
            <a:ext cx="233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Zusagevolumen (Mio D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73520" y="6086520"/>
            <a:ext cx="160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Zusagen (Anzah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5410080" y="6157800"/>
            <a:ext cx="122400" cy="120600"/>
            <a:chOff x="5410080" y="6157800"/>
            <a:chExt cx="122400" cy="120600"/>
          </a:xfrm>
        </p:grpSpPr>
        <p:sp>
          <p:nvSpPr>
            <p:cNvPr id="152" name=""/>
            <p:cNvSpPr/>
            <p:nvPr/>
          </p:nvSpPr>
          <p:spPr>
            <a:xfrm>
              <a:off x="5410080" y="6157800"/>
              <a:ext cx="122400" cy="4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410080" y="6162480"/>
              <a:ext cx="122400" cy="3240"/>
            </a:xfrm>
            <a:prstGeom prst="rect">
              <a:avLst/>
            </a:prstGeom>
            <a:solidFill>
              <a:srgbClr val="b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410080" y="6165720"/>
              <a:ext cx="122400" cy="6480"/>
            </a:xfrm>
            <a:prstGeom prst="rect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410080" y="6172200"/>
              <a:ext cx="122400" cy="648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410080" y="6178680"/>
              <a:ext cx="122400" cy="2880"/>
            </a:xfrm>
            <a:prstGeom prst="rect">
              <a:avLst/>
            </a:prstGeom>
            <a:solidFill>
              <a:srgbClr val="ac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410080" y="6181560"/>
              <a:ext cx="122400" cy="6480"/>
            </a:xfrm>
            <a:prstGeom prst="rect">
              <a:avLst/>
            </a:pr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410080" y="6188040"/>
              <a:ext cx="122400" cy="64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10080" y="6194520"/>
              <a:ext cx="122400" cy="2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410080" y="6197400"/>
              <a:ext cx="122400" cy="50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10080" y="6202440"/>
              <a:ext cx="122400" cy="61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10080" y="6208560"/>
              <a:ext cx="122400" cy="32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10080" y="6211800"/>
              <a:ext cx="122400" cy="648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410080" y="6218280"/>
              <a:ext cx="122400" cy="6120"/>
            </a:xfrm>
            <a:prstGeom prst="rect">
              <a:avLst/>
            </a:prstGeom>
            <a:solidFill>
              <a:srgbClr val="87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6224400"/>
              <a:ext cx="122400" cy="3240"/>
            </a:xfrm>
            <a:prstGeom prst="rect">
              <a:avLst/>
            </a:prstGeom>
            <a:solidFill>
              <a:srgbClr val="8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10080" y="6227640"/>
              <a:ext cx="122400" cy="64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410080" y="6234120"/>
              <a:ext cx="122400" cy="4680"/>
            </a:xfrm>
            <a:prstGeom prst="rect">
              <a:avLst/>
            </a:prstGeom>
            <a:solidFill>
              <a:srgbClr val="747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410080" y="6238800"/>
              <a:ext cx="122400" cy="324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410080" y="6242040"/>
              <a:ext cx="122400" cy="6480"/>
            </a:xfrm>
            <a:prstGeom prst="rect">
              <a:avLst/>
            </a:prstGeom>
            <a:solidFill>
              <a:srgbClr val="69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10080" y="6248520"/>
              <a:ext cx="122400" cy="6120"/>
            </a:xfrm>
            <a:prstGeom prst="rect">
              <a:avLst/>
            </a:prstGeom>
            <a:solidFill>
              <a:srgbClr val="636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10080" y="6254640"/>
              <a:ext cx="122400" cy="3240"/>
            </a:xfrm>
            <a:prstGeom prst="rect">
              <a:avLst/>
            </a:pr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410080" y="6257880"/>
              <a:ext cx="122400" cy="6480"/>
            </a:xfrm>
            <a:prstGeom prst="rect">
              <a:avLst/>
            </a:prstGeom>
            <a:solidFill>
              <a:srgbClr val="5b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10080" y="6264360"/>
              <a:ext cx="122400" cy="6120"/>
            </a:xfrm>
            <a:prstGeom prst="rect">
              <a:avLst/>
            </a:prstGeom>
            <a:solidFill>
              <a:srgbClr val="57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410080" y="6270480"/>
              <a:ext cx="122400" cy="3240"/>
            </a:xfrm>
            <a:prstGeom prst="rect">
              <a:avLst/>
            </a:pr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10080" y="6273720"/>
              <a:ext cx="122400" cy="4680"/>
            </a:xfrm>
            <a:prstGeom prst="rect">
              <a:avLst/>
            </a:prstGeom>
            <a:solidFill>
              <a:srgbClr val="535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5410080" y="6157800"/>
            <a:ext cx="125640" cy="1238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55e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6200000">
            <a:off x="-207360" y="32140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Mio D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16200000">
            <a:off x="8982360" y="3214080"/>
            <a:ext cx="11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nzah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30480" y="1828800"/>
            <a:ext cx="7440480" cy="38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30480" y="527688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30480" y="4894200"/>
            <a:ext cx="7440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30480" y="4510080"/>
            <a:ext cx="7440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30480" y="412596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30480" y="3743280"/>
            <a:ext cx="744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30480" y="3360600"/>
            <a:ext cx="744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30480" y="297828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30480" y="259236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30480" y="2209680"/>
            <a:ext cx="744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30480" y="182880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30480" y="1828800"/>
            <a:ext cx="7440480" cy="3830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292400" y="3139920"/>
            <a:ext cx="328320" cy="2519640"/>
            <a:chOff x="1292400" y="3139920"/>
            <a:chExt cx="328320" cy="2519640"/>
          </a:xfrm>
        </p:grpSpPr>
        <p:grpSp>
          <p:nvGrpSpPr>
            <p:cNvPr id="192" name=""/>
            <p:cNvGrpSpPr/>
            <p:nvPr/>
          </p:nvGrpSpPr>
          <p:grpSpPr>
            <a:xfrm>
              <a:off x="1292400" y="3139920"/>
              <a:ext cx="328320" cy="2519280"/>
              <a:chOff x="1292400" y="3139920"/>
              <a:chExt cx="328320" cy="2519280"/>
            </a:xfrm>
          </p:grpSpPr>
          <p:sp>
            <p:nvSpPr>
              <p:cNvPr id="193" name=""/>
              <p:cNvSpPr/>
              <p:nvPr/>
            </p:nvSpPr>
            <p:spPr>
              <a:xfrm>
                <a:off x="1292400" y="31399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292400" y="31784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292400" y="32202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292400" y="32587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292400" y="32976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292400" y="333612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292400" y="3377880"/>
                <a:ext cx="328320" cy="370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292400" y="34153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292400" y="34538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292400" y="34956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292400" y="35341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292400" y="357300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292400" y="36144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292400" y="3653280"/>
                <a:ext cx="328320" cy="367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292400" y="36903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292400" y="372888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292400" y="37706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292400" y="38091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292400" y="38480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292400" y="38898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292400" y="3928320"/>
                <a:ext cx="328320" cy="370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292400" y="39657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292400" y="40075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292400" y="40460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292400" y="40849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292400" y="41234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292400" y="41652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292400" y="4203720"/>
                <a:ext cx="328320" cy="370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292400" y="42411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292400" y="42829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292400" y="43214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292400" y="43603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292400" y="43988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292400" y="44406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292400" y="4479120"/>
                <a:ext cx="328320" cy="367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292400" y="451620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292400" y="45579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292400" y="459648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292400" y="46353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292400" y="46771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292400" y="47156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292400" y="4754520"/>
                <a:ext cx="328320" cy="370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292400" y="479160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292400" y="48333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292400" y="48722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292400" y="49107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292400" y="49525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292400" y="49910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292400" y="5029920"/>
                <a:ext cx="32832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292400" y="5069880"/>
                <a:ext cx="328320" cy="38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292400" y="51087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292400" y="51476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292400" y="51861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292400" y="52279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292400" y="52664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292400" y="5305320"/>
                <a:ext cx="32832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292400" y="534528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292400" y="53838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292400" y="542268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292400" y="54644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292400" y="55029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292400" y="55418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292400" y="5580360"/>
                <a:ext cx="328320" cy="40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292400" y="562068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1292400" y="3139920"/>
              <a:ext cx="328320" cy="251964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133720" y="3462480"/>
            <a:ext cx="328320" cy="2197080"/>
            <a:chOff x="2133720" y="3462480"/>
            <a:chExt cx="328320" cy="2197080"/>
          </a:xfrm>
        </p:grpSpPr>
        <p:grpSp>
          <p:nvGrpSpPr>
            <p:cNvPr id="259" name=""/>
            <p:cNvGrpSpPr/>
            <p:nvPr/>
          </p:nvGrpSpPr>
          <p:grpSpPr>
            <a:xfrm>
              <a:off x="2133720" y="3462480"/>
              <a:ext cx="328320" cy="2196720"/>
              <a:chOff x="2133720" y="3462480"/>
              <a:chExt cx="328320" cy="2196720"/>
            </a:xfrm>
          </p:grpSpPr>
          <p:sp>
            <p:nvSpPr>
              <p:cNvPr id="260" name=""/>
              <p:cNvSpPr/>
              <p:nvPr/>
            </p:nvSpPr>
            <p:spPr>
              <a:xfrm>
                <a:off x="2133720" y="346248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133720" y="34956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133720" y="35312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133720" y="356400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133720" y="36003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133720" y="36331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33720" y="36687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133720" y="37018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133720" y="37378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133720" y="377064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133720" y="38066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133720" y="38394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133720" y="387540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133720" y="39085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133720" y="39441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133720" y="397728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133720" y="40104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133720" y="40460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133720" y="407880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133720" y="41151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133720" y="41479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133720" y="41835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133720" y="42166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133720" y="42526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133720" y="428544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133720" y="43214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133720" y="43542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133720" y="439020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133720" y="44233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133720" y="44589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133720" y="449208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133720" y="45280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133720" y="45608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133720" y="459360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133720" y="46299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133720" y="46627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133720" y="46983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133720" y="47314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133720" y="47674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133720" y="480024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133720" y="48362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133720" y="48690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133720" y="490500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133720" y="49381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133720" y="49737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133720" y="500688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133720" y="50428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133720" y="507564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133720" y="510876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133720" y="51447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133720" y="51775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133720" y="52131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133720" y="52462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133720" y="528228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133720" y="53154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133720" y="53510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133720" y="53838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133720" y="541980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133720" y="54529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133720" y="54885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133720" y="55216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133720" y="55576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133720" y="559044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133720" y="562608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2133720" y="3462480"/>
              <a:ext cx="328320" cy="219708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2938320" y="3710160"/>
            <a:ext cx="338400" cy="1955520"/>
            <a:chOff x="2938320" y="3710160"/>
            <a:chExt cx="338400" cy="1955520"/>
          </a:xfrm>
        </p:grpSpPr>
        <p:grpSp>
          <p:nvGrpSpPr>
            <p:cNvPr id="326" name=""/>
            <p:cNvGrpSpPr/>
            <p:nvPr/>
          </p:nvGrpSpPr>
          <p:grpSpPr>
            <a:xfrm>
              <a:off x="2943360" y="3710160"/>
              <a:ext cx="333360" cy="1955160"/>
              <a:chOff x="2943360" y="3710160"/>
              <a:chExt cx="333360" cy="1955160"/>
            </a:xfrm>
          </p:grpSpPr>
          <p:sp>
            <p:nvSpPr>
              <p:cNvPr id="327" name=""/>
              <p:cNvSpPr/>
              <p:nvPr/>
            </p:nvSpPr>
            <p:spPr>
              <a:xfrm>
                <a:off x="2943360" y="37101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943360" y="37400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943360" y="37699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943360" y="379980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943360" y="3831480"/>
                <a:ext cx="33336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943360" y="38646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943360" y="38944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943360" y="39247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943360" y="39549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943360" y="39848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943360" y="4015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943360" y="40449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943360" y="407520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943360" y="4106520"/>
                <a:ext cx="33336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943360" y="41396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943360" y="41698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943360" y="41997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943360" y="42296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943360" y="42598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943360" y="42901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943360" y="43200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943360" y="435024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943360" y="4381920"/>
                <a:ext cx="33336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943360" y="44146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943360" y="44449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943360" y="44748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943360" y="45050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943360" y="45352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943360" y="45651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943360" y="45954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943360" y="462528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943360" y="46566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943360" y="4686840"/>
                <a:ext cx="33336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943360" y="47196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943360" y="47498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943360" y="4780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943360" y="48099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943360" y="48402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943360" y="4870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943360" y="490032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943360" y="49320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943360" y="4962240"/>
                <a:ext cx="33336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943360" y="49950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943360" y="50252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943360" y="50551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943360" y="50853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943360" y="51156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943360" y="51454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943360" y="517572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943360" y="52070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943360" y="5236920"/>
                <a:ext cx="33336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943360" y="52700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2943360" y="52999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943360" y="53301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943360" y="53604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943360" y="53902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943360" y="54205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943360" y="545040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943360" y="5482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943360" y="5512320"/>
                <a:ext cx="33336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943360" y="5545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943360" y="55753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943360" y="56055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943360" y="56354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2938320" y="3710160"/>
              <a:ext cx="333360" cy="195552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3773520" y="2959200"/>
            <a:ext cx="328680" cy="2700360"/>
            <a:chOff x="3773520" y="2959200"/>
            <a:chExt cx="328680" cy="2700360"/>
          </a:xfrm>
        </p:grpSpPr>
        <p:grpSp>
          <p:nvGrpSpPr>
            <p:cNvPr id="393" name=""/>
            <p:cNvGrpSpPr/>
            <p:nvPr/>
          </p:nvGrpSpPr>
          <p:grpSpPr>
            <a:xfrm>
              <a:off x="3773520" y="2959200"/>
              <a:ext cx="328680" cy="2700000"/>
              <a:chOff x="3773520" y="2959200"/>
              <a:chExt cx="328680" cy="2700000"/>
            </a:xfrm>
          </p:grpSpPr>
          <p:sp>
            <p:nvSpPr>
              <p:cNvPr id="394" name=""/>
              <p:cNvSpPr/>
              <p:nvPr/>
            </p:nvSpPr>
            <p:spPr>
              <a:xfrm>
                <a:off x="3773520" y="29592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773520" y="300060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773520" y="3043800"/>
                <a:ext cx="328680" cy="41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773520" y="30852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773520" y="31269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773520" y="317124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773520" y="32112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773520" y="32529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773520" y="32976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773520" y="333900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773520" y="33793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773520" y="34236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773520" y="34653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773520" y="35071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773520" y="355140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773520" y="35913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773520" y="36331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773520" y="36777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773520" y="371916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773520" y="37594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773520" y="38037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773520" y="3845520"/>
                <a:ext cx="328680" cy="41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773520" y="388692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773520" y="393012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773520" y="397152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773520" y="401328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773520" y="40575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773520" y="4099320"/>
                <a:ext cx="328680" cy="40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773520" y="413964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773520" y="41835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773520" y="422532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773520" y="4267080"/>
                <a:ext cx="328680" cy="40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773520" y="430740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773520" y="435132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773520" y="439308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773520" y="44348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773520" y="447912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773520" y="45194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773520" y="45608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773520" y="460548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773520" y="464724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773520" y="46872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773520" y="473148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773520" y="47732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773520" y="481500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773520" y="48578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773520" y="48996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773520" y="494100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773520" y="498528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773520" y="5027040"/>
                <a:ext cx="328680" cy="40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773520" y="506736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773520" y="51116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773520" y="51530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773520" y="519480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773520" y="52376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773520" y="52794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773520" y="5320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773520" y="53654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773520" y="540720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773520" y="54471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773520" y="54914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773520" y="55332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773520" y="557496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773520" y="56178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8" name=""/>
            <p:cNvSpPr/>
            <p:nvPr/>
          </p:nvSpPr>
          <p:spPr>
            <a:xfrm>
              <a:off x="3773520" y="2959200"/>
              <a:ext cx="328680" cy="270036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4599000" y="3600360"/>
            <a:ext cx="328680" cy="2059200"/>
            <a:chOff x="4599000" y="3600360"/>
            <a:chExt cx="328680" cy="2059200"/>
          </a:xfrm>
        </p:grpSpPr>
        <p:grpSp>
          <p:nvGrpSpPr>
            <p:cNvPr id="460" name=""/>
            <p:cNvGrpSpPr/>
            <p:nvPr/>
          </p:nvGrpSpPr>
          <p:grpSpPr>
            <a:xfrm>
              <a:off x="4599000" y="3600360"/>
              <a:ext cx="328680" cy="2058840"/>
              <a:chOff x="4599000" y="3600360"/>
              <a:chExt cx="328680" cy="2058840"/>
            </a:xfrm>
          </p:grpSpPr>
          <p:sp>
            <p:nvSpPr>
              <p:cNvPr id="461" name=""/>
              <p:cNvSpPr/>
              <p:nvPr/>
            </p:nvSpPr>
            <p:spPr>
              <a:xfrm>
                <a:off x="4599000" y="36003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599000" y="363312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99000" y="36633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599000" y="36961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599000" y="37288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599000" y="37591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599000" y="3791880"/>
                <a:ext cx="328680" cy="34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599000" y="382644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599000" y="385668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599000" y="388944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9000" y="39229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599000" y="39556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599000" y="39859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599000" y="40186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599000" y="40518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599000" y="40816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599000" y="41151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599000" y="414792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599000" y="41781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599000" y="42109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599000" y="42436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599000" y="427392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599000" y="4307040"/>
                <a:ext cx="328680" cy="33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599000" y="434124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599000" y="437148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599000" y="440460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599000" y="44377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599000" y="44704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599000" y="45007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599000" y="45334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599000" y="45666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599000" y="45964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599000" y="46299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599000" y="466272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599000" y="46929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599000" y="472572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599000" y="475884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599000" y="4788720"/>
                <a:ext cx="328680" cy="34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599000" y="482328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599000" y="485604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599000" y="488628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599000" y="491940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599000" y="49525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599000" y="49852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599000" y="50155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599000" y="50482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599000" y="50814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599000" y="51112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599000" y="51447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599000" y="517752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9000" y="52077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599000" y="524052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599000" y="5273640"/>
                <a:ext cx="32868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599000" y="53053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599000" y="53380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599000" y="53712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99000" y="54010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599000" y="543420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599000" y="54673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599000" y="55000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99000" y="55303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599000" y="55630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99000" y="55962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599000" y="56260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5" name=""/>
            <p:cNvSpPr/>
            <p:nvPr/>
          </p:nvSpPr>
          <p:spPr>
            <a:xfrm>
              <a:off x="4599000" y="3600360"/>
              <a:ext cx="328680" cy="205920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5424480" y="2838600"/>
            <a:ext cx="328680" cy="2820960"/>
            <a:chOff x="5424480" y="2838600"/>
            <a:chExt cx="328680" cy="2820960"/>
          </a:xfrm>
        </p:grpSpPr>
        <p:grpSp>
          <p:nvGrpSpPr>
            <p:cNvPr id="527" name=""/>
            <p:cNvGrpSpPr/>
            <p:nvPr/>
          </p:nvGrpSpPr>
          <p:grpSpPr>
            <a:xfrm>
              <a:off x="5424480" y="2838600"/>
              <a:ext cx="328680" cy="2820600"/>
              <a:chOff x="5424480" y="2838600"/>
              <a:chExt cx="328680" cy="2820600"/>
            </a:xfrm>
          </p:grpSpPr>
          <p:sp>
            <p:nvSpPr>
              <p:cNvPr id="528" name=""/>
              <p:cNvSpPr/>
              <p:nvPr/>
            </p:nvSpPr>
            <p:spPr>
              <a:xfrm>
                <a:off x="5424480" y="283860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424480" y="28825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424480" y="292716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424480" y="29700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424480" y="30146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424480" y="305928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424480" y="310320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424480" y="314676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424480" y="31906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424480" y="323532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424480" y="32781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424480" y="3322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424480" y="336744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424480" y="341136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424480" y="345492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424480" y="34988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424480" y="354348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424480" y="35863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5424480" y="36309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424480" y="36756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424480" y="371988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424480" y="37630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424480" y="380736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5424480" y="38516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424480" y="389628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424480" y="39391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424480" y="39837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424480" y="402804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424480" y="40712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424480" y="411552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424480" y="4159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424480" y="420444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424480" y="4247280"/>
                <a:ext cx="328680" cy="471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424480" y="4294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424480" y="433944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424480" y="43822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424480" y="442656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424480" y="447084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424480" y="451404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424480" y="45583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424480" y="46029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424480" y="464760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424480" y="46904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424480" y="473508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424480" y="47790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424480" y="482364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424480" y="48664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424480" y="49111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424480" y="495576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5424480" y="49986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424480" y="504324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424480" y="50871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424480" y="513180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424480" y="51746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424480" y="52192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424480" y="526392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424480" y="53067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5424480" y="53514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424480" y="539568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424480" y="543996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424480" y="5482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424480" y="55274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424480" y="557208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424480" y="56149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2" name=""/>
            <p:cNvSpPr/>
            <p:nvPr/>
          </p:nvSpPr>
          <p:spPr>
            <a:xfrm>
              <a:off x="5424480" y="2838600"/>
              <a:ext cx="328680" cy="282096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6249960" y="2463840"/>
            <a:ext cx="333360" cy="3195720"/>
            <a:chOff x="6249960" y="2463840"/>
            <a:chExt cx="333360" cy="3195720"/>
          </a:xfrm>
        </p:grpSpPr>
        <p:grpSp>
          <p:nvGrpSpPr>
            <p:cNvPr id="594" name=""/>
            <p:cNvGrpSpPr/>
            <p:nvPr/>
          </p:nvGrpSpPr>
          <p:grpSpPr>
            <a:xfrm>
              <a:off x="6249960" y="2463840"/>
              <a:ext cx="333360" cy="3195360"/>
              <a:chOff x="6249960" y="2463840"/>
              <a:chExt cx="333360" cy="3195360"/>
            </a:xfrm>
          </p:grpSpPr>
          <p:sp>
            <p:nvSpPr>
              <p:cNvPr id="595" name=""/>
              <p:cNvSpPr/>
              <p:nvPr/>
            </p:nvSpPr>
            <p:spPr>
              <a:xfrm>
                <a:off x="6249960" y="24638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249960" y="25138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6249960" y="25624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249960" y="2612520"/>
                <a:ext cx="33336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249960" y="26643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249960" y="271440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6249960" y="27630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6249960" y="28134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249960" y="28634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249960" y="29124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249960" y="2962440"/>
                <a:ext cx="33336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249960" y="3014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249960" y="30643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249960" y="31129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249960" y="3163320"/>
                <a:ext cx="333360" cy="48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249960" y="32119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249960" y="32623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249960" y="331092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249960" y="33638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249960" y="34138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249960" y="34628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249960" y="3513240"/>
                <a:ext cx="333360" cy="48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6249960" y="35614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249960" y="36118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6249960" y="366084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249960" y="37137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249960" y="37627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249960" y="38127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249960" y="38613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249960" y="39114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249960" y="396180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249960" y="40107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249960" y="4060800"/>
                <a:ext cx="33336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249960" y="4112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249960" y="41623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249960" y="4211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249960" y="42613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249960" y="4310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249960" y="43603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249960" y="4410720"/>
                <a:ext cx="33336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249960" y="44622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249960" y="45122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249960" y="45612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249960" y="46112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249960" y="46598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249960" y="47102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249960" y="475920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249960" y="48121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249960" y="48607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249960" y="49111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249960" y="49611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249960" y="50097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249960" y="50601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249960" y="510912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249960" y="51620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249960" y="52106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249960" y="52606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249960" y="53096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249960" y="53596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249960" y="5408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249960" y="545868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249960" y="55119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249960" y="55605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249960" y="561060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9" name=""/>
            <p:cNvSpPr/>
            <p:nvPr/>
          </p:nvSpPr>
          <p:spPr>
            <a:xfrm>
              <a:off x="6249960" y="2463840"/>
              <a:ext cx="333360" cy="319572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7080120" y="2185920"/>
            <a:ext cx="328680" cy="3473640"/>
            <a:chOff x="7080120" y="2185920"/>
            <a:chExt cx="328680" cy="3473640"/>
          </a:xfrm>
        </p:grpSpPr>
        <p:grpSp>
          <p:nvGrpSpPr>
            <p:cNvPr id="661" name=""/>
            <p:cNvGrpSpPr/>
            <p:nvPr/>
          </p:nvGrpSpPr>
          <p:grpSpPr>
            <a:xfrm>
              <a:off x="7080120" y="2185920"/>
              <a:ext cx="328680" cy="3473280"/>
              <a:chOff x="7080120" y="2185920"/>
              <a:chExt cx="328680" cy="3473280"/>
            </a:xfrm>
          </p:grpSpPr>
          <p:sp>
            <p:nvSpPr>
              <p:cNvPr id="662" name=""/>
              <p:cNvSpPr/>
              <p:nvPr/>
            </p:nvSpPr>
            <p:spPr>
              <a:xfrm>
                <a:off x="7080120" y="21859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080120" y="224172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080120" y="229320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080120" y="234756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080120" y="240372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080120" y="245808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080120" y="251100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80120" y="25657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080120" y="2621520"/>
                <a:ext cx="328680" cy="51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080120" y="267300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080120" y="27277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080120" y="278352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7080120" y="283824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080120" y="289116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080120" y="29455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7080120" y="300132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7080120" y="305316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7080120" y="31078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080120" y="316368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080120" y="321804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7080120" y="327096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080120" y="332568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7080120" y="33796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080120" y="343584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080120" y="34873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080120" y="35434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7080120" y="359784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080120" y="365112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080120" y="370512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080120" y="375984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080120" y="381564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7080120" y="38674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080120" y="392328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7080120" y="397764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080120" y="403056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080120" y="40852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080120" y="414000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080120" y="4195800"/>
                <a:ext cx="328680" cy="51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080120" y="42472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080120" y="43030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080120" y="435780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080120" y="441072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080120" y="446544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080120" y="451980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080120" y="457560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080120" y="46270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080120" y="468324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080120" y="473760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080120" y="47890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080120" y="48448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080120" y="489960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080120" y="4955400"/>
                <a:ext cx="328680" cy="51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080120" y="50068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080120" y="50626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080120" y="511740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080120" y="517212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080120" y="522504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080120" y="527940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080120" y="533520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080120" y="538704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080120" y="544284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080120" y="549756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080120" y="555192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080120" y="560484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6" name=""/>
            <p:cNvSpPr/>
            <p:nvPr/>
          </p:nvSpPr>
          <p:spPr>
            <a:xfrm>
              <a:off x="7080120" y="2185920"/>
              <a:ext cx="328680" cy="347364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7" name=""/>
          <p:cNvSpPr/>
          <p:nvPr/>
        </p:nvSpPr>
        <p:spPr>
          <a:xfrm>
            <a:off x="1230480" y="1828800"/>
            <a:ext cx="1440" cy="383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170000" y="565956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170000" y="527688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170000" y="4894200"/>
            <a:ext cx="60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170000" y="4510080"/>
            <a:ext cx="60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170000" y="412596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170000" y="3743280"/>
            <a:ext cx="6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170000" y="3360600"/>
            <a:ext cx="6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170000" y="297828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70000" y="259236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170000" y="2209680"/>
            <a:ext cx="6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170000" y="182880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230480" y="565956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123048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205740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288288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371160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453708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5364000" y="565956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618984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7018200" y="565956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7843680" y="565956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867096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8670960" y="1828800"/>
            <a:ext cx="1440" cy="383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8609040" y="565956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8609040" y="5111640"/>
            <a:ext cx="122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8609040" y="456408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8609040" y="401652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609040" y="347184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8609040" y="292428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8609040" y="236232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8609040" y="182880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1706400" y="2730600"/>
            <a:ext cx="328680" cy="2928960"/>
            <a:chOff x="1706400" y="2730600"/>
            <a:chExt cx="328680" cy="2928960"/>
          </a:xfrm>
        </p:grpSpPr>
        <p:grpSp>
          <p:nvGrpSpPr>
            <p:cNvPr id="760" name=""/>
            <p:cNvGrpSpPr/>
            <p:nvPr/>
          </p:nvGrpSpPr>
          <p:grpSpPr>
            <a:xfrm>
              <a:off x="1706400" y="2730600"/>
              <a:ext cx="328680" cy="2928960"/>
              <a:chOff x="1706400" y="2730600"/>
              <a:chExt cx="328680" cy="2928960"/>
            </a:xfrm>
          </p:grpSpPr>
          <p:sp>
            <p:nvSpPr>
              <p:cNvPr id="761" name=""/>
              <p:cNvSpPr/>
              <p:nvPr/>
            </p:nvSpPr>
            <p:spPr>
              <a:xfrm>
                <a:off x="1706400" y="27306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706400" y="28220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706400" y="2912400"/>
                <a:ext cx="328680" cy="928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1706400" y="3005640"/>
                <a:ext cx="328680" cy="91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1706400" y="30974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1706400" y="3187800"/>
                <a:ext cx="328680" cy="90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706400" y="3277800"/>
                <a:ext cx="328680" cy="943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706400" y="337248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1706400" y="34628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1706400" y="35532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1706400" y="3645000"/>
                <a:ext cx="32868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706400" y="37382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1706400" y="38286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1706400" y="39204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1706400" y="4010760"/>
                <a:ext cx="328680" cy="928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1706400" y="4103640"/>
                <a:ext cx="328680" cy="91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706400" y="4195800"/>
                <a:ext cx="328680" cy="90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706400" y="42858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1706400" y="4376160"/>
                <a:ext cx="328680" cy="943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1706400" y="44708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1706400" y="45612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1706400" y="46515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706400" y="4743360"/>
                <a:ext cx="32868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1706400" y="48366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1706400" y="49269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1706400" y="501876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1706400" y="5109120"/>
                <a:ext cx="328680" cy="928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706400" y="52020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1706400" y="52938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1706400" y="53841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1706400" y="5475600"/>
                <a:ext cx="32868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1706400" y="55692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3" name=""/>
            <p:cNvSpPr/>
            <p:nvPr/>
          </p:nvSpPr>
          <p:spPr>
            <a:xfrm>
              <a:off x="1706400" y="2730600"/>
              <a:ext cx="328680" cy="292896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2532240" y="2906640"/>
            <a:ext cx="328320" cy="2752920"/>
            <a:chOff x="2532240" y="2906640"/>
            <a:chExt cx="328320" cy="2752920"/>
          </a:xfrm>
        </p:grpSpPr>
        <p:grpSp>
          <p:nvGrpSpPr>
            <p:cNvPr id="795" name=""/>
            <p:cNvGrpSpPr/>
            <p:nvPr/>
          </p:nvGrpSpPr>
          <p:grpSpPr>
            <a:xfrm>
              <a:off x="2532240" y="2906640"/>
              <a:ext cx="328320" cy="2752560"/>
              <a:chOff x="2532240" y="2906640"/>
              <a:chExt cx="328320" cy="2752560"/>
            </a:xfrm>
          </p:grpSpPr>
          <p:sp>
            <p:nvSpPr>
              <p:cNvPr id="796" name=""/>
              <p:cNvSpPr/>
              <p:nvPr/>
            </p:nvSpPr>
            <p:spPr>
              <a:xfrm>
                <a:off x="2532240" y="2906640"/>
                <a:ext cx="32832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2532240" y="29926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2532240" y="307728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532240" y="316584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2532240" y="325080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2532240" y="33364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2532240" y="3421080"/>
                <a:ext cx="32832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2532240" y="351036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532240" y="359496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532240" y="368064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2532240" y="376560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532240" y="385416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2532240" y="3938760"/>
                <a:ext cx="32832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532240" y="402480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532240" y="410940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532240" y="419832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2532240" y="428328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2532240" y="436896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532240" y="4453560"/>
                <a:ext cx="32832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2532240" y="45424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2532240" y="462708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2532240" y="471276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2532240" y="479772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532240" y="488664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2532240" y="4971240"/>
                <a:ext cx="32832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2532240" y="50572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2532240" y="514188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2532240" y="523044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2532240" y="531540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532240" y="54010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2532240" y="5485680"/>
                <a:ext cx="32832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2532240" y="557496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8" name=""/>
            <p:cNvSpPr/>
            <p:nvPr/>
          </p:nvSpPr>
          <p:spPr>
            <a:xfrm>
              <a:off x="2532240" y="2906640"/>
              <a:ext cx="328320" cy="275292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3357720" y="2863800"/>
            <a:ext cx="333360" cy="2795760"/>
            <a:chOff x="3357720" y="2863800"/>
            <a:chExt cx="333360" cy="2795760"/>
          </a:xfrm>
        </p:grpSpPr>
        <p:grpSp>
          <p:nvGrpSpPr>
            <p:cNvPr id="830" name=""/>
            <p:cNvGrpSpPr/>
            <p:nvPr/>
          </p:nvGrpSpPr>
          <p:grpSpPr>
            <a:xfrm>
              <a:off x="3357720" y="2863800"/>
              <a:ext cx="333360" cy="2795400"/>
              <a:chOff x="3357720" y="2863800"/>
              <a:chExt cx="333360" cy="2795400"/>
            </a:xfrm>
          </p:grpSpPr>
          <p:sp>
            <p:nvSpPr>
              <p:cNvPr id="831" name=""/>
              <p:cNvSpPr/>
              <p:nvPr/>
            </p:nvSpPr>
            <p:spPr>
              <a:xfrm>
                <a:off x="3357720" y="286380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357720" y="2950920"/>
                <a:ext cx="33336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357720" y="3035520"/>
                <a:ext cx="33336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3357720" y="312480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357720" y="3211920"/>
                <a:ext cx="33336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357720" y="3300840"/>
                <a:ext cx="33336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357720" y="338544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3357720" y="347436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3357720" y="3561840"/>
                <a:ext cx="33336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3357720" y="3650760"/>
                <a:ext cx="33336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357720" y="373536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3357720" y="382392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3357720" y="391140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3357720" y="3998880"/>
                <a:ext cx="33336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357720" y="408528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357720" y="417276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3357720" y="426132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357720" y="4348800"/>
                <a:ext cx="33336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357720" y="443484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357720" y="452232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357720" y="461124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357720" y="4698720"/>
                <a:ext cx="33336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357720" y="478476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357720" y="487224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357720" y="496116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357720" y="5048640"/>
                <a:ext cx="33336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3357720" y="513324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3357720" y="522216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3357720" y="530964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3357720" y="5398200"/>
                <a:ext cx="33336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357720" y="5482800"/>
                <a:ext cx="33336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3357720" y="557208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3" name=""/>
            <p:cNvSpPr/>
            <p:nvPr/>
          </p:nvSpPr>
          <p:spPr>
            <a:xfrm>
              <a:off x="3357720" y="2863800"/>
              <a:ext cx="333360" cy="279576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4" name=""/>
          <p:cNvGrpSpPr/>
          <p:nvPr/>
        </p:nvGrpSpPr>
        <p:grpSpPr>
          <a:xfrm>
            <a:off x="4187880" y="2478240"/>
            <a:ext cx="328680" cy="3181320"/>
            <a:chOff x="4187880" y="2478240"/>
            <a:chExt cx="328680" cy="3181320"/>
          </a:xfrm>
        </p:grpSpPr>
        <p:grpSp>
          <p:nvGrpSpPr>
            <p:cNvPr id="865" name=""/>
            <p:cNvGrpSpPr/>
            <p:nvPr/>
          </p:nvGrpSpPr>
          <p:grpSpPr>
            <a:xfrm>
              <a:off x="4187880" y="2478240"/>
              <a:ext cx="328680" cy="3180960"/>
              <a:chOff x="4187880" y="2478240"/>
              <a:chExt cx="328680" cy="3180960"/>
            </a:xfrm>
          </p:grpSpPr>
          <p:sp>
            <p:nvSpPr>
              <p:cNvPr id="866" name=""/>
              <p:cNvSpPr/>
              <p:nvPr/>
            </p:nvSpPr>
            <p:spPr>
              <a:xfrm>
                <a:off x="4187880" y="24782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187880" y="2576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187880" y="26758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187880" y="2774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4187880" y="2873880"/>
                <a:ext cx="328680" cy="101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187880" y="29754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187880" y="30744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187880" y="3173040"/>
                <a:ext cx="328680" cy="100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4187880" y="32734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4187880" y="33724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4187880" y="34714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4187880" y="35704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4187880" y="3669480"/>
                <a:ext cx="328680" cy="101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4187880" y="377100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4187880" y="38703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4187880" y="39690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4187880" y="4068000"/>
                <a:ext cx="328680" cy="100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4187880" y="41684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4187880" y="42670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4187880" y="43660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4187880" y="4465080"/>
                <a:ext cx="328680" cy="101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4187880" y="45669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4187880" y="46659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187880" y="47646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187880" y="486360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4187880" y="4962600"/>
                <a:ext cx="328680" cy="100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187880" y="50626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4187880" y="51620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187880" y="5260680"/>
                <a:ext cx="328680" cy="101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4187880" y="53625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4187880" y="546156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4187880" y="55605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8" name=""/>
            <p:cNvSpPr/>
            <p:nvPr/>
          </p:nvSpPr>
          <p:spPr>
            <a:xfrm>
              <a:off x="4187880" y="2478240"/>
              <a:ext cx="328680" cy="318132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9" name=""/>
          <p:cNvGrpSpPr/>
          <p:nvPr/>
        </p:nvGrpSpPr>
        <p:grpSpPr>
          <a:xfrm>
            <a:off x="5013360" y="3241800"/>
            <a:ext cx="328680" cy="2417760"/>
            <a:chOff x="5013360" y="3241800"/>
            <a:chExt cx="328680" cy="2417760"/>
          </a:xfrm>
        </p:grpSpPr>
        <p:grpSp>
          <p:nvGrpSpPr>
            <p:cNvPr id="900" name=""/>
            <p:cNvGrpSpPr/>
            <p:nvPr/>
          </p:nvGrpSpPr>
          <p:grpSpPr>
            <a:xfrm>
              <a:off x="5013360" y="3241800"/>
              <a:ext cx="328680" cy="2417400"/>
              <a:chOff x="5013360" y="3241800"/>
              <a:chExt cx="328680" cy="2417400"/>
            </a:xfrm>
          </p:grpSpPr>
          <p:sp>
            <p:nvSpPr>
              <p:cNvPr id="901" name=""/>
              <p:cNvSpPr/>
              <p:nvPr/>
            </p:nvSpPr>
            <p:spPr>
              <a:xfrm>
                <a:off x="5013360" y="324180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5013360" y="3315960"/>
                <a:ext cx="328680" cy="774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5013360" y="339372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013360" y="346824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013360" y="354564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013360" y="3620160"/>
                <a:ext cx="328680" cy="75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5013360" y="369612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5013360" y="3770640"/>
                <a:ext cx="328680" cy="74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5013360" y="384552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5013360" y="392292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013360" y="3997440"/>
                <a:ext cx="328680" cy="75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5013360" y="407340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5013360" y="414792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5013360" y="422532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5013360" y="4299840"/>
                <a:ext cx="328680" cy="75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013360" y="437580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5013360" y="4450320"/>
                <a:ext cx="328680" cy="74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5013360" y="452520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5013360" y="460260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013360" y="467712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013360" y="4754520"/>
                <a:ext cx="328680" cy="73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5013360" y="482760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5013360" y="4905000"/>
                <a:ext cx="328680" cy="74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5013360" y="497988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5013360" y="505440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5013360" y="5131800"/>
                <a:ext cx="328680" cy="73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5013360" y="520488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013360" y="528228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5013360" y="5356800"/>
                <a:ext cx="328680" cy="774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013360" y="543456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013360" y="5508720"/>
                <a:ext cx="328680" cy="75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013360" y="558504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3" name=""/>
            <p:cNvSpPr/>
            <p:nvPr/>
          </p:nvSpPr>
          <p:spPr>
            <a:xfrm>
              <a:off x="5013360" y="3241800"/>
              <a:ext cx="328680" cy="241776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4" name=""/>
          <p:cNvGrpSpPr/>
          <p:nvPr/>
        </p:nvGrpSpPr>
        <p:grpSpPr>
          <a:xfrm>
            <a:off x="5838840" y="2774880"/>
            <a:ext cx="328680" cy="2884680"/>
            <a:chOff x="5838840" y="2774880"/>
            <a:chExt cx="328680" cy="2884680"/>
          </a:xfrm>
        </p:grpSpPr>
        <p:grpSp>
          <p:nvGrpSpPr>
            <p:cNvPr id="935" name=""/>
            <p:cNvGrpSpPr/>
            <p:nvPr/>
          </p:nvGrpSpPr>
          <p:grpSpPr>
            <a:xfrm>
              <a:off x="5838840" y="2774880"/>
              <a:ext cx="328680" cy="2884680"/>
              <a:chOff x="5838840" y="2774880"/>
              <a:chExt cx="328680" cy="2884680"/>
            </a:xfrm>
          </p:grpSpPr>
          <p:sp>
            <p:nvSpPr>
              <p:cNvPr id="936" name=""/>
              <p:cNvSpPr/>
              <p:nvPr/>
            </p:nvSpPr>
            <p:spPr>
              <a:xfrm>
                <a:off x="5838840" y="2774880"/>
                <a:ext cx="328680" cy="90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838840" y="2864880"/>
                <a:ext cx="32868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838840" y="29538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5838840" y="30441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5838840" y="313596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5838840" y="322632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5838840" y="33138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5838840" y="34056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5838840" y="3495960"/>
                <a:ext cx="328680" cy="90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5838840" y="3585960"/>
                <a:ext cx="32868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838840" y="367488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838840" y="37656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838840" y="38570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5838840" y="394740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838840" y="403488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838840" y="412668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838840" y="42170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5838840" y="4307400"/>
                <a:ext cx="32868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5838840" y="439632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5838840" y="448668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5838840" y="457812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5838840" y="466884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5838840" y="475632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5838840" y="484776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5838840" y="493812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5838840" y="502992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5838840" y="51174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5838840" y="52077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5838840" y="529956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5838840" y="538992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838840" y="54774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5838840" y="55692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5838840" y="2774880"/>
              <a:ext cx="328680" cy="288468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664320" y="2595600"/>
            <a:ext cx="333360" cy="3063960"/>
            <a:chOff x="6664320" y="2595600"/>
            <a:chExt cx="333360" cy="3063960"/>
          </a:xfrm>
        </p:grpSpPr>
        <p:grpSp>
          <p:nvGrpSpPr>
            <p:cNvPr id="970" name=""/>
            <p:cNvGrpSpPr/>
            <p:nvPr/>
          </p:nvGrpSpPr>
          <p:grpSpPr>
            <a:xfrm>
              <a:off x="6664320" y="2595600"/>
              <a:ext cx="333360" cy="3063600"/>
              <a:chOff x="6664320" y="2595600"/>
              <a:chExt cx="333360" cy="3063600"/>
            </a:xfrm>
          </p:grpSpPr>
          <p:sp>
            <p:nvSpPr>
              <p:cNvPr id="971" name=""/>
              <p:cNvSpPr/>
              <p:nvPr/>
            </p:nvSpPr>
            <p:spPr>
              <a:xfrm>
                <a:off x="6664320" y="259560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6664320" y="269172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6664320" y="2789280"/>
                <a:ext cx="333360" cy="928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6664320" y="288216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6664320" y="297828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6664320" y="307440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6664320" y="317196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6664320" y="326520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6664320" y="336096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6664320" y="345744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6664320" y="355320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6664320" y="365076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664320" y="374400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6664320" y="384012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6664320" y="393588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6664320" y="403344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6664320" y="412668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6664320" y="422280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6664320" y="431892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6664320" y="441468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6664320" y="451224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6664320" y="460584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6664320" y="470160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6664320" y="479772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664320" y="489384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6664320" y="499140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6664320" y="508464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6664320" y="518040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6664320" y="527652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6664320" y="537408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664320" y="546732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6664320" y="556308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3" name=""/>
            <p:cNvSpPr/>
            <p:nvPr/>
          </p:nvSpPr>
          <p:spPr>
            <a:xfrm>
              <a:off x="6664320" y="2595600"/>
              <a:ext cx="333360" cy="306396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4" name=""/>
          <p:cNvGrpSpPr/>
          <p:nvPr/>
        </p:nvGrpSpPr>
        <p:grpSpPr>
          <a:xfrm>
            <a:off x="7494480" y="2496960"/>
            <a:ext cx="328680" cy="3162600"/>
            <a:chOff x="7494480" y="2496960"/>
            <a:chExt cx="328680" cy="3162600"/>
          </a:xfrm>
        </p:grpSpPr>
        <p:grpSp>
          <p:nvGrpSpPr>
            <p:cNvPr id="1005" name=""/>
            <p:cNvGrpSpPr/>
            <p:nvPr/>
          </p:nvGrpSpPr>
          <p:grpSpPr>
            <a:xfrm>
              <a:off x="7494480" y="2496960"/>
              <a:ext cx="328680" cy="3162240"/>
              <a:chOff x="7494480" y="2496960"/>
              <a:chExt cx="328680" cy="3162240"/>
            </a:xfrm>
          </p:grpSpPr>
          <p:sp>
            <p:nvSpPr>
              <p:cNvPr id="1006" name=""/>
              <p:cNvSpPr/>
              <p:nvPr/>
            </p:nvSpPr>
            <p:spPr>
              <a:xfrm>
                <a:off x="7494480" y="24969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7494480" y="259560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494480" y="2694600"/>
                <a:ext cx="328680" cy="100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7494480" y="279504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7494480" y="28940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494480" y="2993040"/>
                <a:ext cx="32868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7494480" y="308880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494480" y="31878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7494480" y="32868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7494480" y="33858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494480" y="3484440"/>
                <a:ext cx="328680" cy="100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7494480" y="3584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7494480" y="36838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7494480" y="3782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7494480" y="3881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7494480" y="3980520"/>
                <a:ext cx="32868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7494480" y="40766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7494480" y="41756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7494480" y="4274640"/>
                <a:ext cx="328680" cy="100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7494480" y="43750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7494480" y="44737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7494480" y="457272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7494480" y="46717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7494480" y="47707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7494480" y="48693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7494480" y="496836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494480" y="5067360"/>
                <a:ext cx="32868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7494480" y="51649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494480" y="52639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7494480" y="53625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7494480" y="546156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494480" y="55605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8" name=""/>
            <p:cNvSpPr/>
            <p:nvPr/>
          </p:nvSpPr>
          <p:spPr>
            <a:xfrm>
              <a:off x="7494480" y="2496960"/>
              <a:ext cx="328680" cy="31626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9" name=""/>
          <p:cNvGrpSpPr/>
          <p:nvPr/>
        </p:nvGrpSpPr>
        <p:grpSpPr>
          <a:xfrm>
            <a:off x="8319960" y="1806480"/>
            <a:ext cx="328680" cy="3850920"/>
            <a:chOff x="8319960" y="1806480"/>
            <a:chExt cx="328680" cy="3850920"/>
          </a:xfrm>
        </p:grpSpPr>
        <p:grpSp>
          <p:nvGrpSpPr>
            <p:cNvPr id="1040" name=""/>
            <p:cNvGrpSpPr/>
            <p:nvPr/>
          </p:nvGrpSpPr>
          <p:grpSpPr>
            <a:xfrm>
              <a:off x="8319960" y="1806480"/>
              <a:ext cx="328680" cy="3850200"/>
              <a:chOff x="8319960" y="1806480"/>
              <a:chExt cx="328680" cy="3850200"/>
            </a:xfrm>
          </p:grpSpPr>
          <p:sp>
            <p:nvSpPr>
              <p:cNvPr id="1041" name=""/>
              <p:cNvSpPr/>
              <p:nvPr/>
            </p:nvSpPr>
            <p:spPr>
              <a:xfrm>
                <a:off x="8319960" y="18064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8319960" y="19252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8319960" y="204408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8319960" y="2168280"/>
                <a:ext cx="328680" cy="120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8319960" y="22896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8319960" y="24087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8319960" y="2527560"/>
                <a:ext cx="328680" cy="1234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8319960" y="26514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8319960" y="27702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8319960" y="28893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8319960" y="300816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8319960" y="3132360"/>
                <a:ext cx="328680" cy="118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8319960" y="32508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8319960" y="33699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8319960" y="348876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8319960" y="36129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8319960" y="3732120"/>
                <a:ext cx="328680" cy="118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8319960" y="38502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8319960" y="396936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8319960" y="40935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8319960" y="4212360"/>
                <a:ext cx="328680" cy="120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8319960" y="43336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8319960" y="445284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8319960" y="4577040"/>
                <a:ext cx="328680" cy="118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8319960" y="46954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8319960" y="48142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8319960" y="493344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8319960" y="505764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8319960" y="517644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8319960" y="5295600"/>
                <a:ext cx="328680" cy="118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8319960" y="541368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8319960" y="55378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3" name=""/>
            <p:cNvSpPr/>
            <p:nvPr/>
          </p:nvSpPr>
          <p:spPr>
            <a:xfrm>
              <a:off x="8319960" y="1806480"/>
              <a:ext cx="328680" cy="385092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4" name=""/>
          <p:cNvSpPr/>
          <p:nvPr/>
        </p:nvSpPr>
        <p:spPr>
          <a:xfrm>
            <a:off x="1231920" y="14572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171440" y="145908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33520" y="13399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V="1">
            <a:off x="1193760" y="1447560"/>
            <a:ext cx="7464600" cy="12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V="1">
            <a:off x="866448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7905600" y="1371600"/>
            <a:ext cx="328680" cy="4287600"/>
            <a:chOff x="7905600" y="1371600"/>
            <a:chExt cx="328680" cy="4287600"/>
          </a:xfrm>
        </p:grpSpPr>
        <p:grpSp>
          <p:nvGrpSpPr>
            <p:cNvPr id="1080" name=""/>
            <p:cNvGrpSpPr/>
            <p:nvPr/>
          </p:nvGrpSpPr>
          <p:grpSpPr>
            <a:xfrm>
              <a:off x="7905600" y="1371600"/>
              <a:ext cx="328680" cy="4287240"/>
              <a:chOff x="7905600" y="1371600"/>
              <a:chExt cx="328680" cy="4287240"/>
            </a:xfrm>
          </p:grpSpPr>
          <p:sp>
            <p:nvSpPr>
              <p:cNvPr id="1081" name=""/>
              <p:cNvSpPr/>
              <p:nvPr/>
            </p:nvSpPr>
            <p:spPr>
              <a:xfrm>
                <a:off x="7905600" y="137160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905600" y="14378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905600" y="150372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905600" y="15753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905600" y="16412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7905600" y="170712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7905600" y="1773720"/>
                <a:ext cx="328680" cy="62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7905600" y="183636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7905600" y="190800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7905600" y="19742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7905600" y="20404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7905600" y="21063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7905600" y="2172240"/>
                <a:ext cx="328680" cy="71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7905600" y="22442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7905600" y="23101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7905600" y="23760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7905600" y="244188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7905600" y="250848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7905600" y="25797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7905600" y="26456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7905600" y="27115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7905600" y="277740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7905600" y="2844000"/>
                <a:ext cx="328680" cy="68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7905600" y="29124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7905600" y="297828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7905600" y="30448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7905600" y="31107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7905600" y="317664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7905600" y="32479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7905600" y="331416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7905600" y="33804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7905600" y="34466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7905600" y="351252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7905600" y="358380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7905600" y="36504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7905600" y="37162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7905600" y="378216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7905600" y="38534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7905600" y="391932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7905600" y="39859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7905600" y="40518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7905600" y="4117680"/>
                <a:ext cx="328680" cy="68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7905600" y="41868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905600" y="42526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905600" y="43185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905600" y="438444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905600" y="445104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905600" y="45223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905600" y="45882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7905600" y="46540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7905600" y="472032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7905600" y="478656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7905600" y="48578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7905600" y="49240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7905600" y="49899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7905600" y="505584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7905600" y="512244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905600" y="51937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905600" y="5259600"/>
                <a:ext cx="328680" cy="63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7905600" y="53229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7905600" y="53892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7905600" y="545508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7905600" y="552636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7905600" y="55929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5" name=""/>
            <p:cNvSpPr/>
            <p:nvPr/>
          </p:nvSpPr>
          <p:spPr>
            <a:xfrm>
              <a:off x="7905600" y="1371600"/>
              <a:ext cx="328680" cy="428760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58D08-9397-4D0C-84EB-8748E22444B9}" type="slidenum">
              <a:t>4</a:t>
            </a:fld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ahl der Kreditzusagen und Zusagevolumen in den KfW-Programmen für den Mittelstand nach durchleitenden Bank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7" name="" descr=""/>
          <p:cNvPicPr/>
          <p:nvPr/>
        </p:nvPicPr>
        <p:blipFill>
          <a:blip r:embed="rId1"/>
          <a:stretch/>
        </p:blipFill>
        <p:spPr>
          <a:xfrm>
            <a:off x="1295280" y="1147680"/>
            <a:ext cx="8313840" cy="5176800"/>
          </a:xfrm>
          <a:prstGeom prst="rect">
            <a:avLst/>
          </a:prstGeom>
          <a:ln w="0">
            <a:noFill/>
          </a:ln>
        </p:spPr>
      </p:pic>
      <p:sp>
        <p:nvSpPr>
          <p:cNvPr id="1148" name=""/>
          <p:cNvSpPr/>
          <p:nvPr/>
        </p:nvSpPr>
        <p:spPr>
          <a:xfrm rot="16217400">
            <a:off x="84960" y="28861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dex 1991 =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FB017-74D0-400D-8846-4C4D1A03B375}" type="slidenum">
              <a:t>5</a:t>
            </a:fld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usagevolumen in TDM pro Zusage in den KfW-Programmen für den Mittelstand nach durchleitenden Bank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0" name="" descr=""/>
          <p:cNvPicPr/>
          <p:nvPr/>
        </p:nvPicPr>
        <p:blipFill>
          <a:blip r:embed="rId1"/>
          <a:stretch/>
        </p:blipFill>
        <p:spPr>
          <a:xfrm>
            <a:off x="1208160" y="1150920"/>
            <a:ext cx="8316720" cy="5173560"/>
          </a:xfrm>
          <a:prstGeom prst="rect">
            <a:avLst/>
          </a:prstGeom>
          <a:ln w="0">
            <a:noFill/>
          </a:ln>
        </p:spPr>
      </p:pic>
      <p:sp>
        <p:nvSpPr>
          <p:cNvPr id="1151" name=""/>
          <p:cNvSpPr/>
          <p:nvPr/>
        </p:nvSpPr>
        <p:spPr>
          <a:xfrm>
            <a:off x="8604360" y="57150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s 31.0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BFBC6-812B-408A-B59A-FA3CD3557EAF}" type="slidenum">
              <a:t>6</a:t>
            </a:fld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teile der durchleitenden Banken am Zusagevolumen der KfW-Programme für den Mittelsta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2554200" y="1542960"/>
            <a:ext cx="6707160" cy="3861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554200" y="501804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554200" y="463248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2554200" y="424656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2554200" y="385920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2554200" y="347508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554200" y="308772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2554200" y="270180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2554200" y="231444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2554200" y="193032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554200" y="154296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554200" y="1542960"/>
            <a:ext cx="6707160" cy="386100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2554200" y="2725560"/>
            <a:ext cx="6707160" cy="2678400"/>
          </a:xfrm>
          <a:custGeom>
            <a:avLst/>
            <a:gdLst/>
            <a:ahLst/>
            <a:rect l="l" t="t" r="r" b="b"/>
            <a:pathLst>
              <a:path w="8451" h="3376">
                <a:moveTo>
                  <a:pt x="0" y="3376"/>
                </a:moveTo>
                <a:lnTo>
                  <a:pt x="0" y="0"/>
                </a:lnTo>
                <a:lnTo>
                  <a:pt x="939" y="225"/>
                </a:lnTo>
                <a:lnTo>
                  <a:pt x="1879" y="795"/>
                </a:lnTo>
                <a:lnTo>
                  <a:pt x="2817" y="897"/>
                </a:lnTo>
                <a:lnTo>
                  <a:pt x="3757" y="920"/>
                </a:lnTo>
                <a:lnTo>
                  <a:pt x="4695" y="1124"/>
                </a:lnTo>
                <a:lnTo>
                  <a:pt x="5635" y="1257"/>
                </a:lnTo>
                <a:lnTo>
                  <a:pt x="6573" y="1329"/>
                </a:lnTo>
                <a:lnTo>
                  <a:pt x="7513" y="1587"/>
                </a:lnTo>
                <a:lnTo>
                  <a:pt x="8451" y="1763"/>
                </a:lnTo>
                <a:lnTo>
                  <a:pt x="8451" y="3376"/>
                </a:lnTo>
                <a:lnTo>
                  <a:pt x="7513" y="3376"/>
                </a:lnTo>
                <a:lnTo>
                  <a:pt x="6573" y="3376"/>
                </a:lnTo>
                <a:lnTo>
                  <a:pt x="5635" y="3376"/>
                </a:lnTo>
                <a:lnTo>
                  <a:pt x="4695" y="3376"/>
                </a:lnTo>
                <a:lnTo>
                  <a:pt x="3757" y="3376"/>
                </a:lnTo>
                <a:lnTo>
                  <a:pt x="2817" y="3376"/>
                </a:lnTo>
                <a:lnTo>
                  <a:pt x="1879" y="3376"/>
                </a:lnTo>
                <a:lnTo>
                  <a:pt x="939" y="3376"/>
                </a:lnTo>
                <a:lnTo>
                  <a:pt x="0" y="337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1717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2554200" y="1960560"/>
            <a:ext cx="6707160" cy="2163600"/>
          </a:xfrm>
          <a:custGeom>
            <a:avLst/>
            <a:gdLst/>
            <a:ahLst/>
            <a:rect l="l" t="t" r="r" b="b"/>
            <a:pathLst>
              <a:path w="8451" h="2727">
                <a:moveTo>
                  <a:pt x="0" y="964"/>
                </a:moveTo>
                <a:lnTo>
                  <a:pt x="0" y="0"/>
                </a:lnTo>
                <a:lnTo>
                  <a:pt x="939" y="154"/>
                </a:lnTo>
                <a:lnTo>
                  <a:pt x="1879" y="410"/>
                </a:lnTo>
                <a:lnTo>
                  <a:pt x="2817" y="455"/>
                </a:lnTo>
                <a:lnTo>
                  <a:pt x="3757" y="488"/>
                </a:lnTo>
                <a:lnTo>
                  <a:pt x="4695" y="469"/>
                </a:lnTo>
                <a:lnTo>
                  <a:pt x="5635" y="551"/>
                </a:lnTo>
                <a:lnTo>
                  <a:pt x="6573" y="527"/>
                </a:lnTo>
                <a:lnTo>
                  <a:pt x="7513" y="641"/>
                </a:lnTo>
                <a:lnTo>
                  <a:pt x="8451" y="513"/>
                </a:lnTo>
                <a:lnTo>
                  <a:pt x="8451" y="2727"/>
                </a:lnTo>
                <a:lnTo>
                  <a:pt x="7513" y="2551"/>
                </a:lnTo>
                <a:lnTo>
                  <a:pt x="6573" y="2293"/>
                </a:lnTo>
                <a:lnTo>
                  <a:pt x="5635" y="2221"/>
                </a:lnTo>
                <a:lnTo>
                  <a:pt x="4695" y="2088"/>
                </a:lnTo>
                <a:lnTo>
                  <a:pt x="3757" y="1884"/>
                </a:lnTo>
                <a:lnTo>
                  <a:pt x="2817" y="1861"/>
                </a:lnTo>
                <a:lnTo>
                  <a:pt x="1879" y="1759"/>
                </a:lnTo>
                <a:lnTo>
                  <a:pt x="939" y="1189"/>
                </a:lnTo>
                <a:lnTo>
                  <a:pt x="0" y="964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2554200" y="1544760"/>
            <a:ext cx="6707160" cy="923760"/>
          </a:xfrm>
          <a:custGeom>
            <a:avLst/>
            <a:gdLst/>
            <a:ahLst/>
            <a:rect l="l" t="t" r="r" b="b"/>
            <a:pathLst>
              <a:path w="8451" h="1164">
                <a:moveTo>
                  <a:pt x="0" y="523"/>
                </a:moveTo>
                <a:lnTo>
                  <a:pt x="0" y="43"/>
                </a:lnTo>
                <a:lnTo>
                  <a:pt x="939" y="36"/>
                </a:lnTo>
                <a:lnTo>
                  <a:pt x="1879" y="20"/>
                </a:lnTo>
                <a:lnTo>
                  <a:pt x="2817" y="31"/>
                </a:lnTo>
                <a:lnTo>
                  <a:pt x="3757" y="12"/>
                </a:lnTo>
                <a:lnTo>
                  <a:pt x="4695" y="6"/>
                </a:lnTo>
                <a:lnTo>
                  <a:pt x="5635" y="5"/>
                </a:lnTo>
                <a:lnTo>
                  <a:pt x="6573" y="24"/>
                </a:lnTo>
                <a:lnTo>
                  <a:pt x="7513" y="13"/>
                </a:lnTo>
                <a:lnTo>
                  <a:pt x="8451" y="0"/>
                </a:lnTo>
                <a:lnTo>
                  <a:pt x="8451" y="1036"/>
                </a:lnTo>
                <a:lnTo>
                  <a:pt x="7513" y="1164"/>
                </a:lnTo>
                <a:lnTo>
                  <a:pt x="6573" y="1050"/>
                </a:lnTo>
                <a:lnTo>
                  <a:pt x="5635" y="1074"/>
                </a:lnTo>
                <a:lnTo>
                  <a:pt x="4695" y="992"/>
                </a:lnTo>
                <a:lnTo>
                  <a:pt x="3757" y="1011"/>
                </a:lnTo>
                <a:lnTo>
                  <a:pt x="2817" y="978"/>
                </a:lnTo>
                <a:lnTo>
                  <a:pt x="1879" y="933"/>
                </a:lnTo>
                <a:lnTo>
                  <a:pt x="939" y="677"/>
                </a:lnTo>
                <a:lnTo>
                  <a:pt x="0" y="523"/>
                </a:lnTo>
                <a:close/>
              </a:path>
            </a:pathLst>
          </a:custGeom>
          <a:gradFill rotWithShape="0">
            <a:gsLst>
              <a:gs pos="0">
                <a:srgbClr val="00ccff"/>
              </a:gs>
              <a:gs pos="100000">
                <a:srgbClr val="00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554200" y="1542960"/>
            <a:ext cx="6707160" cy="34920"/>
          </a:xfrm>
          <a:custGeom>
            <a:avLst/>
            <a:gdLst/>
            <a:ahLst/>
            <a:rect l="l" t="t" r="r" b="b"/>
            <a:pathLst>
              <a:path w="8451" h="45">
                <a:moveTo>
                  <a:pt x="0" y="45"/>
                </a:moveTo>
                <a:lnTo>
                  <a:pt x="0" y="0"/>
                </a:lnTo>
                <a:lnTo>
                  <a:pt x="939" y="0"/>
                </a:lnTo>
                <a:lnTo>
                  <a:pt x="1879" y="0"/>
                </a:lnTo>
                <a:lnTo>
                  <a:pt x="2817" y="0"/>
                </a:lnTo>
                <a:lnTo>
                  <a:pt x="3757" y="0"/>
                </a:lnTo>
                <a:lnTo>
                  <a:pt x="4695" y="0"/>
                </a:lnTo>
                <a:lnTo>
                  <a:pt x="5635" y="0"/>
                </a:lnTo>
                <a:lnTo>
                  <a:pt x="6573" y="0"/>
                </a:lnTo>
                <a:lnTo>
                  <a:pt x="7513" y="0"/>
                </a:lnTo>
                <a:lnTo>
                  <a:pt x="8451" y="0"/>
                </a:lnTo>
                <a:lnTo>
                  <a:pt x="8451" y="2"/>
                </a:lnTo>
                <a:lnTo>
                  <a:pt x="7513" y="15"/>
                </a:lnTo>
                <a:lnTo>
                  <a:pt x="6573" y="26"/>
                </a:lnTo>
                <a:lnTo>
                  <a:pt x="5635" y="7"/>
                </a:lnTo>
                <a:lnTo>
                  <a:pt x="4695" y="8"/>
                </a:lnTo>
                <a:lnTo>
                  <a:pt x="3757" y="14"/>
                </a:lnTo>
                <a:lnTo>
                  <a:pt x="2817" y="33"/>
                </a:lnTo>
                <a:lnTo>
                  <a:pt x="1879" y="22"/>
                </a:lnTo>
                <a:lnTo>
                  <a:pt x="939" y="38"/>
                </a:lnTo>
                <a:lnTo>
                  <a:pt x="0" y="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554200" y="2725560"/>
            <a:ext cx="6707160" cy="2678400"/>
          </a:xfrm>
          <a:custGeom>
            <a:avLst/>
            <a:gdLst/>
            <a:ahLst/>
            <a:rect l="l" t="t" r="r" b="b"/>
            <a:pathLst>
              <a:path w="8451" h="3376">
                <a:moveTo>
                  <a:pt x="0" y="3376"/>
                </a:moveTo>
                <a:lnTo>
                  <a:pt x="0" y="0"/>
                </a:lnTo>
                <a:lnTo>
                  <a:pt x="939" y="225"/>
                </a:lnTo>
                <a:lnTo>
                  <a:pt x="1879" y="795"/>
                </a:lnTo>
                <a:lnTo>
                  <a:pt x="2817" y="897"/>
                </a:lnTo>
                <a:lnTo>
                  <a:pt x="3757" y="920"/>
                </a:lnTo>
                <a:lnTo>
                  <a:pt x="4695" y="1124"/>
                </a:lnTo>
                <a:lnTo>
                  <a:pt x="5635" y="1257"/>
                </a:lnTo>
                <a:lnTo>
                  <a:pt x="6573" y="1329"/>
                </a:lnTo>
                <a:lnTo>
                  <a:pt x="7513" y="1587"/>
                </a:lnTo>
                <a:lnTo>
                  <a:pt x="8451" y="1763"/>
                </a:lnTo>
                <a:lnTo>
                  <a:pt x="8451" y="3376"/>
                </a:lnTo>
                <a:lnTo>
                  <a:pt x="7513" y="3376"/>
                </a:lnTo>
                <a:lnTo>
                  <a:pt x="6573" y="3376"/>
                </a:lnTo>
                <a:lnTo>
                  <a:pt x="5635" y="3376"/>
                </a:lnTo>
                <a:lnTo>
                  <a:pt x="4695" y="3376"/>
                </a:lnTo>
                <a:lnTo>
                  <a:pt x="3757" y="3376"/>
                </a:lnTo>
                <a:lnTo>
                  <a:pt x="2817" y="3376"/>
                </a:lnTo>
                <a:lnTo>
                  <a:pt x="1879" y="3376"/>
                </a:lnTo>
                <a:lnTo>
                  <a:pt x="939" y="3376"/>
                </a:lnTo>
                <a:lnTo>
                  <a:pt x="0" y="337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554200" y="1960560"/>
            <a:ext cx="6707160" cy="2163600"/>
          </a:xfrm>
          <a:custGeom>
            <a:avLst/>
            <a:gdLst/>
            <a:ahLst/>
            <a:rect l="l" t="t" r="r" b="b"/>
            <a:pathLst>
              <a:path w="8451" h="2727">
                <a:moveTo>
                  <a:pt x="0" y="964"/>
                </a:moveTo>
                <a:lnTo>
                  <a:pt x="0" y="0"/>
                </a:lnTo>
                <a:lnTo>
                  <a:pt x="939" y="154"/>
                </a:lnTo>
                <a:lnTo>
                  <a:pt x="1879" y="410"/>
                </a:lnTo>
                <a:lnTo>
                  <a:pt x="2817" y="455"/>
                </a:lnTo>
                <a:lnTo>
                  <a:pt x="3757" y="488"/>
                </a:lnTo>
                <a:lnTo>
                  <a:pt x="4695" y="469"/>
                </a:lnTo>
                <a:lnTo>
                  <a:pt x="5635" y="551"/>
                </a:lnTo>
                <a:lnTo>
                  <a:pt x="6573" y="527"/>
                </a:lnTo>
                <a:lnTo>
                  <a:pt x="7513" y="641"/>
                </a:lnTo>
                <a:lnTo>
                  <a:pt x="8451" y="513"/>
                </a:lnTo>
                <a:lnTo>
                  <a:pt x="8451" y="2727"/>
                </a:lnTo>
                <a:lnTo>
                  <a:pt x="7513" y="2551"/>
                </a:lnTo>
                <a:lnTo>
                  <a:pt x="6573" y="2293"/>
                </a:lnTo>
                <a:lnTo>
                  <a:pt x="5635" y="2221"/>
                </a:lnTo>
                <a:lnTo>
                  <a:pt x="4695" y="2088"/>
                </a:lnTo>
                <a:lnTo>
                  <a:pt x="3757" y="1884"/>
                </a:lnTo>
                <a:lnTo>
                  <a:pt x="2817" y="1861"/>
                </a:lnTo>
                <a:lnTo>
                  <a:pt x="1879" y="1759"/>
                </a:lnTo>
                <a:lnTo>
                  <a:pt x="939" y="1189"/>
                </a:lnTo>
                <a:lnTo>
                  <a:pt x="0" y="964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2554200" y="1544760"/>
            <a:ext cx="6707160" cy="923760"/>
          </a:xfrm>
          <a:custGeom>
            <a:avLst/>
            <a:gdLst/>
            <a:ahLst/>
            <a:rect l="l" t="t" r="r" b="b"/>
            <a:pathLst>
              <a:path w="8451" h="1164">
                <a:moveTo>
                  <a:pt x="0" y="523"/>
                </a:moveTo>
                <a:lnTo>
                  <a:pt x="0" y="43"/>
                </a:lnTo>
                <a:lnTo>
                  <a:pt x="939" y="36"/>
                </a:lnTo>
                <a:lnTo>
                  <a:pt x="1879" y="20"/>
                </a:lnTo>
                <a:lnTo>
                  <a:pt x="2817" y="31"/>
                </a:lnTo>
                <a:lnTo>
                  <a:pt x="3757" y="12"/>
                </a:lnTo>
                <a:lnTo>
                  <a:pt x="4695" y="6"/>
                </a:lnTo>
                <a:lnTo>
                  <a:pt x="5635" y="5"/>
                </a:lnTo>
                <a:lnTo>
                  <a:pt x="6573" y="24"/>
                </a:lnTo>
                <a:lnTo>
                  <a:pt x="7513" y="13"/>
                </a:lnTo>
                <a:lnTo>
                  <a:pt x="8451" y="0"/>
                </a:lnTo>
                <a:lnTo>
                  <a:pt x="8451" y="1036"/>
                </a:lnTo>
                <a:lnTo>
                  <a:pt x="7513" y="1164"/>
                </a:lnTo>
                <a:lnTo>
                  <a:pt x="6573" y="1050"/>
                </a:lnTo>
                <a:lnTo>
                  <a:pt x="5635" y="1074"/>
                </a:lnTo>
                <a:lnTo>
                  <a:pt x="4695" y="992"/>
                </a:lnTo>
                <a:lnTo>
                  <a:pt x="3757" y="1011"/>
                </a:lnTo>
                <a:lnTo>
                  <a:pt x="2817" y="978"/>
                </a:lnTo>
                <a:lnTo>
                  <a:pt x="1879" y="933"/>
                </a:lnTo>
                <a:lnTo>
                  <a:pt x="939" y="677"/>
                </a:lnTo>
                <a:lnTo>
                  <a:pt x="0" y="523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2554200" y="1542960"/>
            <a:ext cx="6707160" cy="34920"/>
          </a:xfrm>
          <a:custGeom>
            <a:avLst/>
            <a:gdLst/>
            <a:ahLst/>
            <a:rect l="l" t="t" r="r" b="b"/>
            <a:pathLst>
              <a:path w="8451" h="45">
                <a:moveTo>
                  <a:pt x="0" y="45"/>
                </a:moveTo>
                <a:lnTo>
                  <a:pt x="0" y="0"/>
                </a:lnTo>
                <a:lnTo>
                  <a:pt x="939" y="0"/>
                </a:lnTo>
                <a:lnTo>
                  <a:pt x="1879" y="0"/>
                </a:lnTo>
                <a:lnTo>
                  <a:pt x="2817" y="0"/>
                </a:lnTo>
                <a:lnTo>
                  <a:pt x="3757" y="0"/>
                </a:lnTo>
                <a:lnTo>
                  <a:pt x="4695" y="0"/>
                </a:lnTo>
                <a:lnTo>
                  <a:pt x="5635" y="0"/>
                </a:lnTo>
                <a:lnTo>
                  <a:pt x="6573" y="0"/>
                </a:lnTo>
                <a:lnTo>
                  <a:pt x="7513" y="0"/>
                </a:lnTo>
                <a:lnTo>
                  <a:pt x="8451" y="0"/>
                </a:lnTo>
                <a:lnTo>
                  <a:pt x="8451" y="2"/>
                </a:lnTo>
                <a:lnTo>
                  <a:pt x="7513" y="15"/>
                </a:lnTo>
                <a:lnTo>
                  <a:pt x="6573" y="26"/>
                </a:lnTo>
                <a:lnTo>
                  <a:pt x="5635" y="7"/>
                </a:lnTo>
                <a:lnTo>
                  <a:pt x="4695" y="8"/>
                </a:lnTo>
                <a:lnTo>
                  <a:pt x="3757" y="14"/>
                </a:lnTo>
                <a:lnTo>
                  <a:pt x="2817" y="33"/>
                </a:lnTo>
                <a:lnTo>
                  <a:pt x="1879" y="22"/>
                </a:lnTo>
                <a:lnTo>
                  <a:pt x="939" y="38"/>
                </a:lnTo>
                <a:lnTo>
                  <a:pt x="0" y="4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2554200" y="1542960"/>
            <a:ext cx="1800" cy="3861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2484360" y="540396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484360" y="501804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2484360" y="463248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484360" y="424656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484360" y="385920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484360" y="347508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2484360" y="308772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484360" y="270180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2484360" y="231444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484360" y="193032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2484360" y="154296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2554200" y="5403960"/>
            <a:ext cx="6707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V="1">
            <a:off x="255420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329868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 flipV="1">
            <a:off x="4044960" y="5403960"/>
            <a:ext cx="144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flipV="1">
            <a:off x="478944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flipV="1">
            <a:off x="5535720" y="5403960"/>
            <a:ext cx="144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flipV="1">
            <a:off x="6280200" y="5403960"/>
            <a:ext cx="144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flipV="1">
            <a:off x="702612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V="1">
            <a:off x="7770960" y="5403960"/>
            <a:ext cx="144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flipV="1">
            <a:off x="851688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V="1">
            <a:off x="926136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358240" y="430056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358240" y="277020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358240" y="181944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642040" y="39355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8763480" y="461160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2591280" y="22129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8763480" y="31273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2565720" y="163836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8763480" y="18367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2102040" y="5273640"/>
            <a:ext cx="32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973520" y="488808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1973520" y="450216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973520" y="411624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1973520" y="372888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973520" y="33433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1973520" y="295740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1973520" y="257184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1973520" y="218448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1973520" y="180036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1847520" y="14130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35080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309528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84156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58604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33232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607680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682272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756756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831348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905796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1762200" y="6108840"/>
            <a:ext cx="141120" cy="141120"/>
          </a:xfrm>
          <a:prstGeom prst="rect">
            <a:avLst/>
          </a:prstGeom>
          <a:solidFill>
            <a:srgbClr val="3333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2010600" y="6048360"/>
            <a:ext cx="133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vatbank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392640" y="6108840"/>
            <a:ext cx="141120" cy="141120"/>
          </a:xfrm>
          <a:prstGeom prst="rect">
            <a:avLst/>
          </a:prstGeom>
          <a:solidFill>
            <a:srgbClr val="ff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3642840" y="6048360"/>
            <a:ext cx="182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arkassensek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521320" y="6108840"/>
            <a:ext cx="141120" cy="141120"/>
          </a:xfrm>
          <a:prstGeom prst="rect">
            <a:avLst/>
          </a:prstGeom>
          <a:solidFill>
            <a:srgbClr val="00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773680" y="6048360"/>
            <a:ext cx="238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nossenschaftssek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8211960" y="6108840"/>
            <a:ext cx="141480" cy="14112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8459640" y="6048360"/>
            <a:ext cx="88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nsti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8788320" y="57913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s 31.0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B0E94-BDF3-490E-8CC4-B8DF488558CB}" type="slidenum">
              <a:t>7</a:t>
            </a:fld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usgangslage im Bankensekto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1888920" y="2285640"/>
            <a:ext cx="7553160" cy="68580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eringe Ertragskraf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1890720" y="3124080"/>
            <a:ext cx="7553160" cy="5335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hohe Personalkos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1890720" y="3733920"/>
            <a:ext cx="7553160" cy="53316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dichtes Zweigstellennet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1889280" y="4419720"/>
            <a:ext cx="7553160" cy="6094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eringe Konzent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D651C-E25C-4C60-9978-D766A324C62E}" type="slidenum">
              <a:t>8</a:t>
            </a:fld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ntwicklungen im Finanzierungsmark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1447920" y="3428640"/>
            <a:ext cx="7937280" cy="12193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txBody>
          <a:bodyPr anchor="ctr" anchorCtr="1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Deregulierung, Globalisierung, Shareholder-valu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steigende Renditeerwartungen und Konzentrationswell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1447920" y="1523880"/>
            <a:ext cx="7937280" cy="160020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Fortschritte in der Informations- und Telekommunikationstechnologi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steigende Markttransparenz, sinkende Marktzutritts-kosten, neue Produkte, intensiverer Wettbewer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454040" y="4952880"/>
            <a:ext cx="7937640" cy="124776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U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Katalysator, aufnahmefähigere Kapitalmärk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31B06-3D4A-417A-BBA4-978582796DAD}" type="slidenum">
              <a:t>9</a:t>
            </a:fld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0T09:22:33Z</dcterms:created>
  <dc:creator/>
  <dc:description/>
  <dc:language>en-US</dc:language>
  <cp:lastModifiedBy>Klaus Braun</cp:lastModifiedBy>
  <cp:lastPrinted>2000-10-30T09:09:29Z</cp:lastPrinted>
  <dcterms:modified xsi:type="dcterms:W3CDTF">2000-10-30T15:09:45Z</dcterms:modified>
  <cp:revision>47</cp:revision>
  <dc:subject>Mittelstandsfinanzierung/Enquete</dc:subject>
  <dc:title>Vortrag Dr. Irsch 26.06.2000</dc:title>
</cp:coreProperties>
</file>