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3B7-245A-4D21-8D77-F3CD38C2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F11-625F-4BAB-B738-D97CBCCE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367-6BC5-4E42-A68C-E90E51F1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0A5-0B0C-411D-A307-02F2EADD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350-D791-406C-8991-60DF7811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435-0A31-45CF-A24F-16A76D1F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FAF-9717-4FA6-81ED-5B4FF3B6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F20-391F-41D2-ADC1-268B2F0F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A2A0-CBD2-445E-A5EF-72A97023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B1E-D661-4764-AAEB-23BB5438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F11-FDA0-4A89-8AC7-7D127580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FA3-4598-454D-8102-056BA1BA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1CEA-5A56-4823-9295-B75204EEB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78000" y="609480"/>
            <a:ext cx="7713360" cy="5218920"/>
            <a:chOff x="1278000" y="609480"/>
            <a:chExt cx="7713360" cy="5218920"/>
          </a:xfrm>
        </p:grpSpPr>
        <p:sp>
          <p:nvSpPr>
            <p:cNvPr id="42" name=""/>
            <p:cNvSpPr/>
            <p:nvPr/>
          </p:nvSpPr>
          <p:spPr>
            <a:xfrm>
              <a:off x="1282680" y="609480"/>
              <a:ext cx="70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3333cc"/>
                  </a:solidFill>
                  <a:latin typeface="Arial"/>
                </a:rPr>
                <a:t>Auswirkungen von Feinstäub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94920" y="1228680"/>
              <a:ext cx="7621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14720" y="12286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Schweiz, 199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78000" y="1917000"/>
              <a:ext cx="6525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3.8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vorzeitige Todesfälle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38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Fälle chron. Bronchitis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,6 Mill.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Asthma-Anfä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6920" y="3636360"/>
              <a:ext cx="7273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791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Arbeitsunfähigkeit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2.9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im Krankenha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durch Atemwegs-/Herzerkrankung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0520" y="35002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0520" y="52210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9240" y="5460120"/>
              <a:ext cx="33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Bundesärztekammer 08.07.9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836640" y="430200"/>
            <a:ext cx="8598600" cy="5911200"/>
            <a:chOff x="836640" y="430200"/>
            <a:chExt cx="8598600" cy="5911200"/>
          </a:xfrm>
        </p:grpSpPr>
        <p:sp>
          <p:nvSpPr>
            <p:cNvPr id="52" name=""/>
            <p:cNvSpPr/>
            <p:nvPr/>
          </p:nvSpPr>
          <p:spPr>
            <a:xfrm>
              <a:off x="1432080" y="100656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5120" y="1676520"/>
              <a:ext cx="8520120" cy="46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90 %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     der Stäube in Atmosphäre &lt;10 µm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P.J. CRUTZEN, 1994) stammen aus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anthropogenen Verbrennungsprozessen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87,5 %    PCDD/F an Partikeln &lt; 2 µm angelagert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 (EPA, 1994) diese bestens alveolengängig!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100 %    Bioverfügbarkeit dieser Substanzen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C.S. NESSEL et al, 199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430200"/>
              <a:ext cx="82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Staubpartikel, halogenierte Kohlenwasserstoff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1219320"/>
              <a:ext cx="8001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767800" cy="466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287000" y="762120"/>
            <a:ext cx="7781040" cy="4800600"/>
            <a:chOff x="1287000" y="762120"/>
            <a:chExt cx="7781040" cy="4800600"/>
          </a:xfrm>
        </p:grpSpPr>
        <p:sp>
          <p:nvSpPr>
            <p:cNvPr id="60" name=""/>
            <p:cNvSpPr/>
            <p:nvPr/>
          </p:nvSpPr>
          <p:spPr>
            <a:xfrm>
              <a:off x="1292400" y="762120"/>
              <a:ext cx="609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PCBs  -  chronische Belast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14479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87000" y="1829160"/>
              <a:ext cx="77810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euromuskuläre Schwäche bei Kindern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Fein, 198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isual recognition memory reduziert (Säuglinge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8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Kurzzeitgedächtnis vermindert (Kinder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9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Hypoton, Hyporeflexie, Hypothyreose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ROGAN, 198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iedrig chlorierte PCBs passieren Plaz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457236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55627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807732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8:01:58Z</dcterms:created>
  <dc:creator>Dorothee&amp;Lukas&amp;André Bönsch</dc:creator>
  <dc:description/>
  <dc:language>en-US</dc:language>
  <cp:lastModifiedBy>User</cp:lastModifiedBy>
  <dcterms:modified xsi:type="dcterms:W3CDTF">2002-01-14T16:01:39Z</dcterms:modified>
  <cp:revision>3</cp:revision>
  <dc:subject/>
  <dc:title>Kein Folientitel</dc:title>
</cp:coreProperties>
</file>