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7105650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D64E-A243-4FF4-80A2-251A75972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7D44-0E9B-495A-807C-6914D339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6994-4FC0-457A-B457-43977D2C5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3C27-C7E2-42F7-B275-028245FF7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53A2-0AE3-4E2A-BD63-5E8A12A9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95B3-E472-4295-9714-6561BCE1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319C-6232-4C2A-B145-5D901D88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1F0C-3174-4D5D-9D0F-D84906A4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15B5-A7CA-4B8F-AC19-6E405637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322A-C2D5-4546-AADE-DF6670D0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65FA-FD5F-4AE5-AD7C-DC291FB9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53A9-69FE-4887-ACFF-9AC33520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C9DA-A8FD-41CF-BE66-98BA34E0E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5805360" cy="7772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564520" y="90676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8:39:21Z</dcterms:created>
  <dc:creator>Dorothee&amp;Lukas&amp;André Bönsch</dc:creator>
  <dc:description/>
  <dc:language>en-US</dc:language>
  <cp:lastModifiedBy>Deutscher Bundestag</cp:lastModifiedBy>
  <cp:lastPrinted>2002-01-10T13:53:14Z</cp:lastPrinted>
  <dcterms:modified xsi:type="dcterms:W3CDTF">2002-01-15T09:24:37Z</dcterms:modified>
  <cp:revision>3</cp:revision>
  <dc:subject/>
  <dc:title>Kein Folientitel</dc:title>
</cp:coreProperties>
</file>