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18300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CF74F-2F8F-4532-9579-C805900534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3EC82-2E74-488C-A762-A5CDEE246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29C7B-F7FE-4FC4-ACDF-8CC3BE065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2143B-5EEF-436A-88FB-00108AEE6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5B81A-EC4C-4D6F-AC15-EC3A7F277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714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55200" y="152388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876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2714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55200" y="3951360"/>
            <a:ext cx="25556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38366-E2EA-4979-8C89-865318291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52CE1-9B8F-41E5-A178-7D468AC2B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9B23C-9930-4AC8-9958-7402C89BC4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752120" y="355320"/>
            <a:ext cx="7734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AF046-48AE-4A92-9A23-38750046F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A16AF-AB05-4E2D-8ED4-563C03CC68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54880" y="395136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39CEE-2E5A-455B-882C-E9657613A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54880" y="1523880"/>
            <a:ext cx="387324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951360"/>
            <a:ext cx="7937280" cy="22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52DF0-DAEB-4FA2-A4CC-4F534CBEF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87600" y="1523880"/>
            <a:ext cx="7937280" cy="46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72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5480" indent="-2030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100160" indent="-2732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401840" indent="-2858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401840" indent="-285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04560" y="6757920"/>
            <a:ext cx="1066680" cy="1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20320" y="6757920"/>
            <a:ext cx="3808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A6EB-96EE-4868-8AF6-B820E9558F48}" type="slidenum">
              <a:rPr b="0" lang="en-US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832960" y="6553080"/>
            <a:ext cx="660240" cy="30492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6741" h="21600">
                <a:moveTo>
                  <a:pt x="0" y="0"/>
                </a:moveTo>
                <a:lnTo>
                  <a:pt x="46741" y="0"/>
                </a:lnTo>
                <a:lnTo>
                  <a:pt x="46741" y="21600"/>
                </a:lnTo>
                <a:lnTo>
                  <a:pt x="0" y="21600"/>
                </a:lnTo>
                <a:close/>
              </a:path>
              <a:path fill="lightenLess" w="46741" h="21600">
                <a:moveTo>
                  <a:pt x="0" y="0"/>
                </a:moveTo>
                <a:lnTo>
                  <a:pt x="46741" y="0"/>
                </a:lnTo>
                <a:lnTo>
                  <a:pt x="45341" y="1400"/>
                </a:lnTo>
                <a:lnTo>
                  <a:pt x="1400" y="1400"/>
                </a:lnTo>
                <a:close/>
              </a:path>
              <a:path fill="darken" w="46741" h="21600">
                <a:moveTo>
                  <a:pt x="46741" y="0"/>
                </a:moveTo>
                <a:lnTo>
                  <a:pt x="46741" y="21600"/>
                </a:lnTo>
                <a:lnTo>
                  <a:pt x="45341" y="20200"/>
                </a:lnTo>
                <a:lnTo>
                  <a:pt x="45341" y="1400"/>
                </a:lnTo>
                <a:close/>
              </a:path>
              <a:path fill="darkenLess" w="46741" h="21600">
                <a:moveTo>
                  <a:pt x="467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1" y="20200"/>
                </a:lnTo>
                <a:close/>
              </a:path>
              <a:path fill="lighten" w="467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41" h="21600">
                <a:moveTo>
                  <a:pt x="16364" y="10800"/>
                </a:moveTo>
                <a:lnTo>
                  <a:pt x="30377" y="3794"/>
                </a:lnTo>
                <a:lnTo>
                  <a:pt x="303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>
            <a:off x="8837640" y="6550200"/>
            <a:ext cx="660240" cy="304560"/>
          </a:xfrm>
          <a:custGeom>
            <a:avLst/>
            <a:gdLst>
              <a:gd name="textAreaLeft" fmla="*/ 19440 w 660240"/>
              <a:gd name="textAreaRight" fmla="*/ 640800 w 660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6796" h="21600">
                <a:moveTo>
                  <a:pt x="0" y="0"/>
                </a:moveTo>
                <a:lnTo>
                  <a:pt x="46796" y="0"/>
                </a:lnTo>
                <a:lnTo>
                  <a:pt x="46796" y="21600"/>
                </a:lnTo>
                <a:lnTo>
                  <a:pt x="0" y="21600"/>
                </a:lnTo>
                <a:close/>
              </a:path>
              <a:path fill="lightenLess" w="46796" h="21600">
                <a:moveTo>
                  <a:pt x="0" y="0"/>
                </a:moveTo>
                <a:lnTo>
                  <a:pt x="46796" y="0"/>
                </a:lnTo>
                <a:lnTo>
                  <a:pt x="45396" y="1400"/>
                </a:lnTo>
                <a:lnTo>
                  <a:pt x="1400" y="1400"/>
                </a:lnTo>
                <a:close/>
              </a:path>
              <a:path fill="darken" w="46796" h="21600">
                <a:moveTo>
                  <a:pt x="46796" y="0"/>
                </a:moveTo>
                <a:lnTo>
                  <a:pt x="46796" y="21600"/>
                </a:lnTo>
                <a:lnTo>
                  <a:pt x="45396" y="20200"/>
                </a:lnTo>
                <a:lnTo>
                  <a:pt x="45396" y="1400"/>
                </a:lnTo>
                <a:close/>
              </a:path>
              <a:path fill="darkenLess" w="46796" h="21600">
                <a:moveTo>
                  <a:pt x="46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96" y="20200"/>
                </a:lnTo>
                <a:close/>
              </a:path>
              <a:path fill="lighten" w="46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96" h="21600">
                <a:moveTo>
                  <a:pt x="16391" y="10800"/>
                </a:moveTo>
                <a:lnTo>
                  <a:pt x="30404" y="3794"/>
                </a:lnTo>
                <a:lnTo>
                  <a:pt x="304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1192320" cy="106668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76520" y="304920"/>
            <a:ext cx="7848360" cy="99036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" name="KfW-weis" descr=""/>
          <p:cNvPicPr/>
          <p:nvPr/>
        </p:nvPicPr>
        <p:blipFill>
          <a:blip r:embed="rId2"/>
          <a:stretch/>
        </p:blipFill>
        <p:spPr>
          <a:xfrm>
            <a:off x="571680" y="361800"/>
            <a:ext cx="784080" cy="339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6364440"/>
            <a:ext cx="9149040" cy="328320"/>
          </a:xfrm>
          <a:custGeom>
            <a:avLst/>
            <a:gdLst/>
            <a:ahLst/>
            <a:rect l="l" t="t" r="r" b="b"/>
            <a:pathLst>
              <a:path w="5736" h="207">
                <a:moveTo>
                  <a:pt x="25" y="0"/>
                </a:moveTo>
                <a:lnTo>
                  <a:pt x="21" y="0"/>
                </a:lnTo>
                <a:lnTo>
                  <a:pt x="17" y="2"/>
                </a:lnTo>
                <a:lnTo>
                  <a:pt x="15" y="2"/>
                </a:lnTo>
                <a:lnTo>
                  <a:pt x="11" y="4"/>
                </a:lnTo>
                <a:lnTo>
                  <a:pt x="9" y="6"/>
                </a:lnTo>
                <a:lnTo>
                  <a:pt x="5" y="8"/>
                </a:lnTo>
                <a:lnTo>
                  <a:pt x="3" y="10"/>
                </a:lnTo>
                <a:lnTo>
                  <a:pt x="2" y="14"/>
                </a:lnTo>
                <a:lnTo>
                  <a:pt x="2" y="16"/>
                </a:lnTo>
                <a:lnTo>
                  <a:pt x="0" y="19"/>
                </a:lnTo>
                <a:lnTo>
                  <a:pt x="0" y="21"/>
                </a:lnTo>
                <a:lnTo>
                  <a:pt x="0" y="25"/>
                </a:lnTo>
                <a:lnTo>
                  <a:pt x="0" y="180"/>
                </a:lnTo>
                <a:lnTo>
                  <a:pt x="0" y="184"/>
                </a:lnTo>
                <a:lnTo>
                  <a:pt x="0" y="188"/>
                </a:lnTo>
                <a:lnTo>
                  <a:pt x="2" y="192"/>
                </a:lnTo>
                <a:lnTo>
                  <a:pt x="2" y="194"/>
                </a:lnTo>
                <a:lnTo>
                  <a:pt x="3" y="196"/>
                </a:lnTo>
                <a:lnTo>
                  <a:pt x="5" y="200"/>
                </a:lnTo>
                <a:lnTo>
                  <a:pt x="9" y="201"/>
                </a:lnTo>
                <a:lnTo>
                  <a:pt x="11" y="203"/>
                </a:lnTo>
                <a:lnTo>
                  <a:pt x="15" y="203"/>
                </a:lnTo>
                <a:lnTo>
                  <a:pt x="17" y="205"/>
                </a:lnTo>
                <a:lnTo>
                  <a:pt x="21" y="205"/>
                </a:lnTo>
                <a:lnTo>
                  <a:pt x="25" y="207"/>
                </a:lnTo>
                <a:lnTo>
                  <a:pt x="5711" y="207"/>
                </a:lnTo>
                <a:lnTo>
                  <a:pt x="5715" y="205"/>
                </a:lnTo>
                <a:lnTo>
                  <a:pt x="5719" y="205"/>
                </a:lnTo>
                <a:lnTo>
                  <a:pt x="5721" y="203"/>
                </a:lnTo>
                <a:lnTo>
                  <a:pt x="5725" y="203"/>
                </a:lnTo>
                <a:lnTo>
                  <a:pt x="5727" y="201"/>
                </a:lnTo>
                <a:lnTo>
                  <a:pt x="5731" y="200"/>
                </a:lnTo>
                <a:lnTo>
                  <a:pt x="5733" y="196"/>
                </a:lnTo>
                <a:lnTo>
                  <a:pt x="5734" y="194"/>
                </a:lnTo>
                <a:lnTo>
                  <a:pt x="5734" y="192"/>
                </a:lnTo>
                <a:lnTo>
                  <a:pt x="5736" y="188"/>
                </a:lnTo>
                <a:lnTo>
                  <a:pt x="5736" y="184"/>
                </a:lnTo>
                <a:lnTo>
                  <a:pt x="5736" y="180"/>
                </a:lnTo>
                <a:lnTo>
                  <a:pt x="5736" y="25"/>
                </a:lnTo>
                <a:lnTo>
                  <a:pt x="5736" y="21"/>
                </a:lnTo>
                <a:lnTo>
                  <a:pt x="5736" y="19"/>
                </a:lnTo>
                <a:lnTo>
                  <a:pt x="5734" y="16"/>
                </a:lnTo>
                <a:lnTo>
                  <a:pt x="5734" y="14"/>
                </a:lnTo>
                <a:lnTo>
                  <a:pt x="5733" y="10"/>
                </a:lnTo>
                <a:lnTo>
                  <a:pt x="5731" y="8"/>
                </a:lnTo>
                <a:lnTo>
                  <a:pt x="5727" y="6"/>
                </a:lnTo>
                <a:lnTo>
                  <a:pt x="5725" y="4"/>
                </a:lnTo>
                <a:lnTo>
                  <a:pt x="5721" y="2"/>
                </a:lnTo>
                <a:lnTo>
                  <a:pt x="5719" y="2"/>
                </a:lnTo>
                <a:lnTo>
                  <a:pt x="5715" y="0"/>
                </a:lnTo>
                <a:lnTo>
                  <a:pt x="5711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1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5080" y="228600"/>
            <a:ext cx="9340560" cy="6400800"/>
          </a:xfrm>
          <a:prstGeom prst="rect">
            <a:avLst/>
          </a:prstGeom>
          <a:solidFill>
            <a:srgbClr val="0028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44000" bIns="144000" anchor="t">
            <a:noAutofit/>
          </a:bodyPr>
          <a:p>
            <a:pPr algn="ctr"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7760" indent="0"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2244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2692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116000" algn="ctr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1160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920" y="54860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Dr. Norbert Irsch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300" spc="-1" strike="noStrike">
                <a:solidFill>
                  <a:srgbClr val="ffcc00"/>
                </a:solidFill>
                <a:latin typeface="Arial"/>
              </a:rPr>
              <a:t>Kreditanstalt für Wiederaufbau, Frankfurt am Main</a:t>
            </a:r>
            <a:endParaRPr b="1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80880"/>
            <a:ext cx="906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Sitzung der Enquete-Kommission „Globalisierung der Weltwirtschaft“ am 26.06.2000 in Berl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1752480" y="1676520"/>
            <a:ext cx="7696440" cy="44193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ögliches Szenario zur Zukunft der Finanzierung kleiner mittelständischer Unternehmen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752480" y="1676520"/>
            <a:ext cx="762012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ixkosten der Kreditvergabe und geringe Transparenz de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asel verstärkt potenzielle Nachteile für k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leine Unternehmen sind relativ unattraktiv für die Fremdfinanzierung durch Bank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spcAft>
                <a:spcPts val="601"/>
              </a:spcAft>
              <a:buClr>
                <a:srgbClr val="ffffff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ie direkte Eigen- oder Fremdmittelbeschaffung auf dem Kapitalmarkt ist für kmU generell nahezu ausgeschlos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Probleme für k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weniger Anbieter einer langfristigen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50000"/>
              </a:lnSpc>
              <a:buClr>
                <a:srgbClr val="ffffcc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cc"/>
                </a:solidFill>
                <a:latin typeface="Arial"/>
              </a:rPr>
              <a:t>steigende Kosten der Fremdfinanz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F1E8A-5225-4A52-ADA4-EC9CBE05742E}" type="slidenum">
              <a:t>10</a:t>
            </a:fld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ßnahmen zur Zukunftssicherung der Bankendurchleitu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587600" y="236232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enkung der Transaktionskosten durch den Einsatz von Informations- und Kommunikationstechnologie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587600" y="3429000"/>
            <a:ext cx="793728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risikoorientierte Margengestalt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87600" y="4343400"/>
            <a:ext cx="793728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Entlastung der Kreditinstitute bei Risiko und Eigenkapitalunterleg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23C1B-EEB1-4EDB-9C1E-FB844B961C7F}" type="slidenum">
              <a:t>11</a:t>
            </a:fld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Veränderungen in der Finanzierung des Mittelstandes</a:t>
            </a:r>
            <a:br>
              <a:rPr sz="23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600200" y="3048120"/>
            <a:ext cx="7937640" cy="8380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Zugang zur klassischen Fremdfinanzierung wird für kmU wahrscheinlich erschwe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600200" y="16002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wachsender Wettbewerbsdruck mit Folgen für die Kreditvergabe an kmU in Zukunft auch für Sparkassen und den Genossenschaftssektor zu erwar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600200" y="4114800"/>
            <a:ext cx="792468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novierung der Mittelstandsförderu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0200" y="4800600"/>
            <a:ext cx="79246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uch Mittelstand ist geforder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kzeptanz des Ratings, steigende Transparenz, vermehrte Nutzung von Beteiligungsfinanzierung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E5BA1-550B-4110-BB11-C6124E29EF51}" type="slidenum">
              <a:t>12</a:t>
            </a:fld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e Mittelstandsförderung der KfW 1999 auf einen Blick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2117880"/>
            <a:ext cx="8686800" cy="27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Zusagen über 12,5 Mrd € für kleine und mittlere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Bei kleinen und mittleren Unternehmen wurden Investitione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über 21 Mrd € mitfinanziert. Mit den Vorhaben wurden 1 Mio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Arbeitsplätze gesichert und 75.000 neu ge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spcAft>
                <a:spcPts val="1874"/>
              </a:spcAft>
              <a:buClr>
                <a:srgbClr val="003366"/>
              </a:buClr>
              <a:buSzPct val="80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KfW ist die bedeutendste Förderbank für den Mittelstand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utsch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9D4CB-6A14-4359-8F49-4B95EC741845}" type="slidenum">
              <a:t>2</a:t>
            </a:fld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1371600"/>
          <a:ext cx="929484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1371600"/>
                    <a:ext cx="929484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Bankenorientierung der Finanzierung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586728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elle: Deutsche Bundesbank, Monatsbericht 1/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693F0-9150-4E1D-8A95-C0865AFC01FE}" type="slidenum">
              <a:t>3</a:t>
            </a:fld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Zusagevolumen und Zahl der Kreditzusage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den KfW-Programmen für den Mittelstand 1991 - 1999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6480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7120" y="515160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7120" y="4775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7120" y="43689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7120" y="39830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4440" y="3606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4440" y="32306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2844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4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4440" y="2455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090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4440" y="1695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876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460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715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970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57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264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812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360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29080" y="5827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822880" y="5537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23240" y="4981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823240" y="44388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823240" y="389556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823240" y="3343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23240" y="28036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23240" y="2254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823240" y="1701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5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717640" y="6141960"/>
            <a:ext cx="122400" cy="120600"/>
            <a:chOff x="2717640" y="6141960"/>
            <a:chExt cx="122400" cy="120600"/>
          </a:xfrm>
        </p:grpSpPr>
        <p:sp>
          <p:nvSpPr>
            <p:cNvPr id="124" name=""/>
            <p:cNvSpPr/>
            <p:nvPr/>
          </p:nvSpPr>
          <p:spPr>
            <a:xfrm>
              <a:off x="2717640" y="614196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7640" y="614664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17640" y="614988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17640" y="615636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17640" y="616284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17640" y="616572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7640" y="617220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17640" y="617868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17640" y="618156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17640" y="618660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7640" y="619272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17640" y="619596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17640" y="620244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17640" y="620856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17640" y="621180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17640" y="621828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17640" y="622296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7640" y="622620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17640" y="623268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17640" y="623880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624204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7640" y="624852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7640" y="625464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7640" y="625788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717640" y="6141960"/>
            <a:ext cx="125640" cy="12384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3320" y="6086520"/>
            <a:ext cx="233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Zusagevolumen (Mio D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73520" y="6086520"/>
            <a:ext cx="160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usagen (Anzah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410080" y="6157800"/>
            <a:ext cx="122400" cy="120600"/>
            <a:chOff x="5410080" y="6157800"/>
            <a:chExt cx="122400" cy="120600"/>
          </a:xfrm>
        </p:grpSpPr>
        <p:sp>
          <p:nvSpPr>
            <p:cNvPr id="152" name=""/>
            <p:cNvSpPr/>
            <p:nvPr/>
          </p:nvSpPr>
          <p:spPr>
            <a:xfrm>
              <a:off x="5410080" y="6157800"/>
              <a:ext cx="122400" cy="46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10080" y="6162480"/>
              <a:ext cx="122400" cy="3240"/>
            </a:xfrm>
            <a:prstGeom prst="rect">
              <a:avLst/>
            </a:prstGeom>
            <a:solidFill>
              <a:srgbClr val="b1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6165720"/>
              <a:ext cx="122400" cy="6480"/>
            </a:xfrm>
            <a:prstGeom prst="rect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6172200"/>
              <a:ext cx="122400" cy="6480"/>
            </a:xfrm>
            <a:prstGeom prst="rect">
              <a:avLst/>
            </a:pr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0080" y="6178680"/>
              <a:ext cx="122400" cy="28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6181560"/>
              <a:ext cx="122400" cy="6480"/>
            </a:xfrm>
            <a:prstGeom prst="rect">
              <a:avLst/>
            </a:prstGeom>
            <a:solidFill>
              <a:srgbClr val="aa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10080" y="6188040"/>
              <a:ext cx="122400" cy="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10080" y="6194520"/>
              <a:ext cx="122400" cy="2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0080" y="6197400"/>
              <a:ext cx="122400" cy="50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6202440"/>
              <a:ext cx="122400" cy="61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0080" y="6208560"/>
              <a:ext cx="122400" cy="32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10080" y="6211800"/>
              <a:ext cx="122400" cy="6480"/>
            </a:xfrm>
            <a:prstGeom prst="rect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0080" y="6218280"/>
              <a:ext cx="122400" cy="6120"/>
            </a:xfrm>
            <a:prstGeom prst="rect">
              <a:avLst/>
            </a:prstGeom>
            <a:solidFill>
              <a:srgbClr val="87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6224400"/>
              <a:ext cx="122400" cy="3240"/>
            </a:xfrm>
            <a:prstGeom prst="rect">
              <a:avLst/>
            </a:pr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6227640"/>
              <a:ext cx="122400" cy="64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10080" y="6234120"/>
              <a:ext cx="122400" cy="4680"/>
            </a:xfrm>
            <a:prstGeom prst="rect">
              <a:avLst/>
            </a:pr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10080" y="6238800"/>
              <a:ext cx="122400" cy="32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6242040"/>
              <a:ext cx="122400" cy="6480"/>
            </a:xfrm>
            <a:prstGeom prst="rect">
              <a:avLst/>
            </a:pr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6248520"/>
              <a:ext cx="122400" cy="6120"/>
            </a:xfrm>
            <a:prstGeom prst="rect">
              <a:avLst/>
            </a:prstGeom>
            <a:solidFill>
              <a:srgbClr val="636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10080" y="6254640"/>
              <a:ext cx="122400" cy="3240"/>
            </a:xfrm>
            <a:prstGeom prst="rect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10080" y="6257880"/>
              <a:ext cx="122400" cy="6480"/>
            </a:xfrm>
            <a:prstGeom prst="rect">
              <a:avLst/>
            </a:pr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6264360"/>
              <a:ext cx="122400" cy="6120"/>
            </a:xfrm>
            <a:prstGeom prst="rect">
              <a:avLst/>
            </a:prstGeom>
            <a:solidFill>
              <a:srgbClr val="575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6270480"/>
              <a:ext cx="122400" cy="324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10080" y="6273720"/>
              <a:ext cx="122400" cy="4680"/>
            </a:xfrm>
            <a:prstGeom prst="rect">
              <a:avLst/>
            </a:prstGeom>
            <a:solidFill>
              <a:srgbClr val="5353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410080" y="6157800"/>
            <a:ext cx="125640" cy="1238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-207360" y="32140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Mio 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8982360" y="3214080"/>
            <a:ext cx="11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nza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30480" y="52768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0480" y="489420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0480" y="4510080"/>
            <a:ext cx="744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30480" y="41259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30480" y="37432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30480" y="336060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30480" y="297828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0480" y="25923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0480" y="2209680"/>
            <a:ext cx="744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30480" y="182880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0480" y="1828800"/>
            <a:ext cx="7440480" cy="383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92400" y="3139920"/>
            <a:ext cx="328320" cy="2519640"/>
            <a:chOff x="1292400" y="3139920"/>
            <a:chExt cx="328320" cy="2519640"/>
          </a:xfrm>
        </p:grpSpPr>
        <p:grpSp>
          <p:nvGrpSpPr>
            <p:cNvPr id="192" name=""/>
            <p:cNvGrpSpPr/>
            <p:nvPr/>
          </p:nvGrpSpPr>
          <p:grpSpPr>
            <a:xfrm>
              <a:off x="1292400" y="3139920"/>
              <a:ext cx="328320" cy="2519280"/>
              <a:chOff x="1292400" y="3139920"/>
              <a:chExt cx="328320" cy="25192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2400" y="3139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92400" y="3178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92400" y="3220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2400" y="32587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292400" y="3297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92400" y="333612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92400" y="337788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292400" y="3415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2400" y="3453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292400" y="3495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292400" y="3534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92400" y="35730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92400" y="36144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292400" y="365328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92400" y="3690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92400" y="37288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292400" y="3770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292400" y="38091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92400" y="38480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92400" y="3889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292400" y="39283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92400" y="3965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292400" y="4007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92400" y="4046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2400" y="4084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292400" y="41234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292400" y="41652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292400" y="42037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292400" y="4241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292400" y="4282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92400" y="4321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292400" y="43603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292400" y="439884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292400" y="44406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292400" y="4479120"/>
                <a:ext cx="328320" cy="367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92400" y="45162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292400" y="4557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92400" y="45964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92400" y="46353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292400" y="46771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92400" y="4715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92400" y="4754520"/>
                <a:ext cx="328320" cy="370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292400" y="479160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92400" y="48333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92400" y="48722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2400" y="49107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292400" y="49525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292400" y="49910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92400" y="50299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92400" y="5069880"/>
                <a:ext cx="328320" cy="38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292400" y="51087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92400" y="51476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92400" y="518616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2400" y="522792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92400" y="5266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292400" y="5305320"/>
                <a:ext cx="32832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292400" y="53452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2400" y="538380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292400" y="5422680"/>
                <a:ext cx="32832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292400" y="54644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92400" y="550296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92400" y="554184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292400" y="5580360"/>
                <a:ext cx="32832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92400" y="5620680"/>
                <a:ext cx="328320" cy="385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1292400" y="3139920"/>
              <a:ext cx="328320" cy="2519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133720" y="3462480"/>
            <a:ext cx="328320" cy="2197080"/>
            <a:chOff x="2133720" y="3462480"/>
            <a:chExt cx="328320" cy="2197080"/>
          </a:xfrm>
        </p:grpSpPr>
        <p:grpSp>
          <p:nvGrpSpPr>
            <p:cNvPr id="259" name=""/>
            <p:cNvGrpSpPr/>
            <p:nvPr/>
          </p:nvGrpSpPr>
          <p:grpSpPr>
            <a:xfrm>
              <a:off x="2133720" y="3462480"/>
              <a:ext cx="328320" cy="2196720"/>
              <a:chOff x="2133720" y="3462480"/>
              <a:chExt cx="328320" cy="2196720"/>
            </a:xfrm>
          </p:grpSpPr>
          <p:sp>
            <p:nvSpPr>
              <p:cNvPr id="260" name=""/>
              <p:cNvSpPr/>
              <p:nvPr/>
            </p:nvSpPr>
            <p:spPr>
              <a:xfrm>
                <a:off x="2133720" y="34624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33720" y="34956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33720" y="3531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33720" y="35640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133720" y="36003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133720" y="3633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33720" y="36687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133720" y="37018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33720" y="3737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133720" y="37706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133720" y="38066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3720" y="3839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33720" y="38754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33720" y="3908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133720" y="3944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133720" y="3977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133720" y="4010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33720" y="4046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133720" y="40788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133720" y="41151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133720" y="4147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33720" y="4183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33720" y="4216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133720" y="4252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133720" y="42854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33720" y="43214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33720" y="43542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133720" y="43902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4233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458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44920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133720" y="45280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133720" y="45608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3720" y="459360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133720" y="46299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133720" y="46627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133720" y="46983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133720" y="47314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133720" y="47674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3720" y="480024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133720" y="48362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33720" y="48690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3720" y="49050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49381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133720" y="4973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133720" y="5006880"/>
                <a:ext cx="328320" cy="36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133720" y="50428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33720" y="507564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33720" y="510876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133720" y="514476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133720" y="51775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133720" y="52131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52462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133720" y="52822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133720" y="53154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133720" y="535104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33720" y="538380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33720" y="541980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133720" y="545292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548856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720" y="552168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5557680"/>
                <a:ext cx="32832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133720" y="5590440"/>
                <a:ext cx="328320" cy="35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3720" y="5626080"/>
                <a:ext cx="32832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133720" y="3462480"/>
              <a:ext cx="328320" cy="219708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938320" y="3710160"/>
            <a:ext cx="338400" cy="1955520"/>
            <a:chOff x="2938320" y="3710160"/>
            <a:chExt cx="338400" cy="1955520"/>
          </a:xfrm>
        </p:grpSpPr>
        <p:grpSp>
          <p:nvGrpSpPr>
            <p:cNvPr id="326" name=""/>
            <p:cNvGrpSpPr/>
            <p:nvPr/>
          </p:nvGrpSpPr>
          <p:grpSpPr>
            <a:xfrm>
              <a:off x="2943360" y="3710160"/>
              <a:ext cx="333360" cy="1955160"/>
              <a:chOff x="2943360" y="3710160"/>
              <a:chExt cx="333360" cy="1955160"/>
            </a:xfrm>
          </p:grpSpPr>
          <p:sp>
            <p:nvSpPr>
              <p:cNvPr id="327" name=""/>
              <p:cNvSpPr/>
              <p:nvPr/>
            </p:nvSpPr>
            <p:spPr>
              <a:xfrm>
                <a:off x="2943360" y="371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43360" y="374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943360" y="376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943360" y="37998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943360" y="383148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43360" y="3864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943360" y="3894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943360" y="39247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943360" y="395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943360" y="3984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943360" y="401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43360" y="4044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943360" y="40752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943360" y="41065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943360" y="413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943360" y="416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43360" y="41997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943360" y="42296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943360" y="42598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943360" y="4290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43360" y="4320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43360" y="435024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943360" y="43819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943360" y="44146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943360" y="4444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943360" y="44748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43360" y="4505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943360" y="4535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943360" y="4565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43360" y="4595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43360" y="462528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943360" y="4656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943360" y="46868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43360" y="4719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943360" y="47498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943360" y="478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943360" y="48099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943360" y="48402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43360" y="4870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943360" y="49003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943360" y="4932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943360" y="496224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943360" y="49950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943360" y="50252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3360" y="50551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943360" y="50853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3360" y="51156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3360" y="51454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43360" y="517572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943360" y="5207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943360" y="5236920"/>
                <a:ext cx="33336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943360" y="52700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943360" y="52999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43360" y="53301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43360" y="536040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943360" y="53902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943360" y="54205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43360" y="5450400"/>
                <a:ext cx="33336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3360" y="5482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3360" y="5512320"/>
                <a:ext cx="33336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943360" y="554508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943360" y="557532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43360" y="560556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943360" y="5635440"/>
                <a:ext cx="33336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2938320" y="3710160"/>
              <a:ext cx="333360" cy="19555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773520" y="2959200"/>
            <a:ext cx="328680" cy="2700360"/>
            <a:chOff x="3773520" y="2959200"/>
            <a:chExt cx="328680" cy="2700360"/>
          </a:xfrm>
        </p:grpSpPr>
        <p:grpSp>
          <p:nvGrpSpPr>
            <p:cNvPr id="393" name=""/>
            <p:cNvGrpSpPr/>
            <p:nvPr/>
          </p:nvGrpSpPr>
          <p:grpSpPr>
            <a:xfrm>
              <a:off x="3773520" y="2959200"/>
              <a:ext cx="328680" cy="2700000"/>
              <a:chOff x="3773520" y="2959200"/>
              <a:chExt cx="328680" cy="2700000"/>
            </a:xfrm>
          </p:grpSpPr>
          <p:sp>
            <p:nvSpPr>
              <p:cNvPr id="394" name=""/>
              <p:cNvSpPr/>
              <p:nvPr/>
            </p:nvSpPr>
            <p:spPr>
              <a:xfrm>
                <a:off x="3773520" y="2959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773520" y="30006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773520" y="304380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773520" y="3085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3520" y="3126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773520" y="3171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73520" y="3211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73520" y="325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73520" y="3297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73520" y="33390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73520" y="3379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3520" y="3423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73520" y="3465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73520" y="3507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73520" y="35514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73520" y="35913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73520" y="3633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73520" y="3677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73520" y="371916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773520" y="3759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773520" y="38037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773520" y="3845520"/>
                <a:ext cx="328680" cy="41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73520" y="388692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73520" y="39301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73520" y="39715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773520" y="4013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773520" y="4057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773520" y="409932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73520" y="41396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773520" y="418356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773520" y="4225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73520" y="426708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773520" y="43074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773520" y="435132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73520" y="43930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773520" y="4434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773520" y="447912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773520" y="4519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773520" y="4560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773520" y="4605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73520" y="464724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773520" y="46872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3520" y="47314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73520" y="47732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773520" y="48150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73520" y="48578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773520" y="48996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773520" y="49410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773520" y="498528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73520" y="5027040"/>
                <a:ext cx="328680" cy="40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73520" y="506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5111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773520" y="51530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773520" y="5194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73520" y="52376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73520" y="52794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773520" y="5320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773520" y="5365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773520" y="5407200"/>
                <a:ext cx="328680" cy="399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773520" y="544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773520" y="549144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773520" y="55332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773520" y="5574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773520" y="5617800"/>
                <a:ext cx="328680" cy="414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3773520" y="2959200"/>
              <a:ext cx="328680" cy="27003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599000" y="3600360"/>
            <a:ext cx="328680" cy="2059200"/>
            <a:chOff x="4599000" y="3600360"/>
            <a:chExt cx="328680" cy="2059200"/>
          </a:xfrm>
        </p:grpSpPr>
        <p:grpSp>
          <p:nvGrpSpPr>
            <p:cNvPr id="460" name=""/>
            <p:cNvGrpSpPr/>
            <p:nvPr/>
          </p:nvGrpSpPr>
          <p:grpSpPr>
            <a:xfrm>
              <a:off x="4599000" y="3600360"/>
              <a:ext cx="328680" cy="2058840"/>
              <a:chOff x="4599000" y="3600360"/>
              <a:chExt cx="328680" cy="2058840"/>
            </a:xfrm>
          </p:grpSpPr>
          <p:sp>
            <p:nvSpPr>
              <p:cNvPr id="461" name=""/>
              <p:cNvSpPr/>
              <p:nvPr/>
            </p:nvSpPr>
            <p:spPr>
              <a:xfrm>
                <a:off x="4599000" y="3600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599000" y="36331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99000" y="36633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99000" y="3696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99000" y="37288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599000" y="37591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599000" y="379188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99000" y="38264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599000" y="38566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99000" y="388944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9000" y="3922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99000" y="3955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599000" y="3985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99000" y="4018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599000" y="40518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99000" y="40816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99000" y="4115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99000" y="41479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99000" y="41781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99000" y="42109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599000" y="42436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599000" y="42739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599000" y="4307040"/>
                <a:ext cx="328680" cy="33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599000" y="43412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99000" y="43714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599000" y="44046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99000" y="4437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99000" y="44704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599000" y="45007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99000" y="4533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599000" y="45666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599000" y="45964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599000" y="4629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599000" y="46627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599000" y="46929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99000" y="47257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599000" y="475884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599000" y="4788720"/>
                <a:ext cx="328680" cy="34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823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99000" y="485604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599000" y="488628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99000" y="491940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599000" y="4952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99000" y="49852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99000" y="50155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9000" y="5048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599000" y="50814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99000" y="51112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99000" y="5144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99000" y="517752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9000" y="520776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599000" y="524052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599000" y="5273640"/>
                <a:ext cx="328680" cy="313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599000" y="5305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599000" y="5338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599000" y="5371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99000" y="5401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599000" y="543420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99000" y="5467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99000" y="5500080"/>
                <a:ext cx="328680" cy="30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99000" y="5530320"/>
                <a:ext cx="328680" cy="32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599000" y="5563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99000" y="5596200"/>
                <a:ext cx="328680" cy="29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599000" y="5626080"/>
                <a:ext cx="328680" cy="33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5" name=""/>
            <p:cNvSpPr/>
            <p:nvPr/>
          </p:nvSpPr>
          <p:spPr>
            <a:xfrm>
              <a:off x="4599000" y="3600360"/>
              <a:ext cx="328680" cy="20592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424480" y="2838600"/>
            <a:ext cx="328680" cy="2820960"/>
            <a:chOff x="5424480" y="2838600"/>
            <a:chExt cx="328680" cy="2820960"/>
          </a:xfrm>
        </p:grpSpPr>
        <p:grpSp>
          <p:nvGrpSpPr>
            <p:cNvPr id="527" name=""/>
            <p:cNvGrpSpPr/>
            <p:nvPr/>
          </p:nvGrpSpPr>
          <p:grpSpPr>
            <a:xfrm>
              <a:off x="5424480" y="2838600"/>
              <a:ext cx="328680" cy="2820600"/>
              <a:chOff x="5424480" y="2838600"/>
              <a:chExt cx="328680" cy="2820600"/>
            </a:xfrm>
          </p:grpSpPr>
          <p:sp>
            <p:nvSpPr>
              <p:cNvPr id="528" name=""/>
              <p:cNvSpPr/>
              <p:nvPr/>
            </p:nvSpPr>
            <p:spPr>
              <a:xfrm>
                <a:off x="5424480" y="283860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424480" y="28825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424480" y="29271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424480" y="2970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24480" y="301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424480" y="30592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24480" y="310320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24480" y="31467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24480" y="31906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24480" y="32353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24480" y="3278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24480" y="332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24480" y="33674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24480" y="341136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24480" y="34549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24480" y="34988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24480" y="35434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424480" y="3586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424480" y="3630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24480" y="3675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424480" y="37198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424480" y="37630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24480" y="38073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424480" y="3851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24480" y="38962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24480" y="3939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24480" y="3983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24480" y="40280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24480" y="40712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424480" y="411552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24480" y="4159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424480" y="4204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424480" y="4247280"/>
                <a:ext cx="328680" cy="471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424480" y="4294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424480" y="43394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24480" y="4382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424480" y="442656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424480" y="4470840"/>
                <a:ext cx="328680" cy="432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424480" y="45140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424480" y="45583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424480" y="46029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424480" y="46476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424480" y="4690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424480" y="47350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424480" y="47790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424480" y="482364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24480" y="48664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424480" y="49111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424480" y="49557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424480" y="49986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424480" y="504324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424480" y="50871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424480" y="513180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424480" y="51746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424480" y="521928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424480" y="526392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424480" y="530676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424480" y="53514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424480" y="5395680"/>
                <a:ext cx="328680" cy="43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424480" y="543996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424480" y="548280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424480" y="552744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24480" y="5572080"/>
                <a:ext cx="328680" cy="428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24480" y="5614920"/>
                <a:ext cx="328680" cy="44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5424480" y="2838600"/>
              <a:ext cx="328680" cy="282096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6249960" y="2463840"/>
            <a:ext cx="333360" cy="3195720"/>
            <a:chOff x="6249960" y="2463840"/>
            <a:chExt cx="333360" cy="3195720"/>
          </a:xfrm>
        </p:grpSpPr>
        <p:grpSp>
          <p:nvGrpSpPr>
            <p:cNvPr id="594" name=""/>
            <p:cNvGrpSpPr/>
            <p:nvPr/>
          </p:nvGrpSpPr>
          <p:grpSpPr>
            <a:xfrm>
              <a:off x="6249960" y="2463840"/>
              <a:ext cx="333360" cy="3195360"/>
              <a:chOff x="6249960" y="2463840"/>
              <a:chExt cx="333360" cy="3195360"/>
            </a:xfrm>
          </p:grpSpPr>
          <p:sp>
            <p:nvSpPr>
              <p:cNvPr id="595" name=""/>
              <p:cNvSpPr/>
              <p:nvPr/>
            </p:nvSpPr>
            <p:spPr>
              <a:xfrm>
                <a:off x="6249960" y="24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249960" y="25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249960" y="2562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249960" y="26125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49960" y="2664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49960" y="27144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49960" y="27630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49960" y="2813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49960" y="28634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49960" y="2912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49960" y="296244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49960" y="3014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249960" y="3064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49960" y="3112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49960" y="316332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249960" y="32119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249960" y="32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249960" y="33109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249960" y="3363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9960" y="3413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249960" y="3462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9960" y="3513240"/>
                <a:ext cx="333360" cy="48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49960" y="35614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249960" y="36118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249960" y="366084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249960" y="3713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249960" y="3762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249960" y="38127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249960" y="38613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249960" y="39114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249960" y="39618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249960" y="4010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249960" y="406080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9960" y="4112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249960" y="4162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249960" y="4211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249960" y="42613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249960" y="4310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249960" y="43603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249960" y="4410720"/>
                <a:ext cx="33336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249960" y="4462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49960" y="4512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49960" y="456120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249960" y="4611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249960" y="46598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49960" y="47102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249960" y="475920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249960" y="481212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249960" y="48607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249960" y="491112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249960" y="4961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249960" y="50097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249960" y="50601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249960" y="510912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249960" y="516204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49960" y="5210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249960" y="5260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249960" y="530964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249960" y="535968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249960" y="540828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49960" y="5458680"/>
                <a:ext cx="33336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249960" y="551196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249960" y="5560560"/>
                <a:ext cx="333360" cy="50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49960" y="5610600"/>
                <a:ext cx="333360" cy="486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6249960" y="2463840"/>
              <a:ext cx="333360" cy="319572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7080120" y="2185920"/>
            <a:ext cx="328680" cy="3473640"/>
            <a:chOff x="7080120" y="2185920"/>
            <a:chExt cx="328680" cy="3473640"/>
          </a:xfrm>
        </p:grpSpPr>
        <p:grpSp>
          <p:nvGrpSpPr>
            <p:cNvPr id="661" name=""/>
            <p:cNvGrpSpPr/>
            <p:nvPr/>
          </p:nvGrpSpPr>
          <p:grpSpPr>
            <a:xfrm>
              <a:off x="7080120" y="2185920"/>
              <a:ext cx="328680" cy="3473280"/>
              <a:chOff x="7080120" y="2185920"/>
              <a:chExt cx="328680" cy="3473280"/>
            </a:xfrm>
          </p:grpSpPr>
          <p:sp>
            <p:nvSpPr>
              <p:cNvPr id="662" name=""/>
              <p:cNvSpPr/>
              <p:nvPr/>
            </p:nvSpPr>
            <p:spPr>
              <a:xfrm>
                <a:off x="7080120" y="21859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080120" y="22417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080120" y="229320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080120" y="234756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080120" y="2403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080120" y="245808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2511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80120" y="2565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080120" y="262152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0120" y="26730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80120" y="27277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80120" y="27835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080120" y="28382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080120" y="28911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080120" y="29455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080120" y="300132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080120" y="30531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080120" y="3107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80120" y="3163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080120" y="32180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080120" y="32709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080120" y="33256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080120" y="33796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080120" y="34358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80120" y="348732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080120" y="35434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080120" y="35978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080120" y="365112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080120" y="37051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080120" y="37598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080120" y="381564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080120" y="38674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080120" y="392328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080120" y="397764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080120" y="403056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080120" y="40852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080120" y="41400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080120" y="41958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080120" y="42472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080120" y="43030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0120" y="435780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80120" y="441072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080120" y="44654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080120" y="45198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080120" y="4575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080120" y="4627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080120" y="46832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080120" y="47376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080120" y="47890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0120" y="48448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80120" y="48996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80120" y="4955400"/>
                <a:ext cx="328680" cy="511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80120" y="500688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80120" y="506268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080120" y="511740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80120" y="51721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80120" y="522504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80120" y="527940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080120" y="5335200"/>
                <a:ext cx="328680" cy="514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080120" y="5387040"/>
                <a:ext cx="328680" cy="558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080120" y="5442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080120" y="5497560"/>
                <a:ext cx="328680" cy="5400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080120" y="5551920"/>
                <a:ext cx="328680" cy="5292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080120" y="5604840"/>
                <a:ext cx="328680" cy="54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" name=""/>
            <p:cNvSpPr/>
            <p:nvPr/>
          </p:nvSpPr>
          <p:spPr>
            <a:xfrm>
              <a:off x="7080120" y="2185920"/>
              <a:ext cx="328680" cy="347364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3048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70000" y="56595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70000" y="5276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70000" y="489420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70000" y="4510080"/>
            <a:ext cx="60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70000" y="41259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170000" y="37432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70000" y="336060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70000" y="29782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70000" y="25923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170000" y="2209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170000" y="18288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30480" y="5659560"/>
            <a:ext cx="744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12304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0574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8828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1160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453708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53640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618984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701820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7843680" y="5659560"/>
            <a:ext cx="180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8670960" y="5659560"/>
            <a:ext cx="1440" cy="5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670960" y="1828800"/>
            <a:ext cx="1440" cy="383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609040" y="565956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09040" y="5111640"/>
            <a:ext cx="122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609040" y="45640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609040" y="40165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609040" y="347184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609040" y="292428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09040" y="236232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609040" y="1828800"/>
            <a:ext cx="12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1706400" y="2730600"/>
            <a:ext cx="328680" cy="2928960"/>
            <a:chOff x="1706400" y="2730600"/>
            <a:chExt cx="328680" cy="2928960"/>
          </a:xfrm>
        </p:grpSpPr>
        <p:grpSp>
          <p:nvGrpSpPr>
            <p:cNvPr id="760" name=""/>
            <p:cNvGrpSpPr/>
            <p:nvPr/>
          </p:nvGrpSpPr>
          <p:grpSpPr>
            <a:xfrm>
              <a:off x="1706400" y="2730600"/>
              <a:ext cx="328680" cy="2928960"/>
              <a:chOff x="1706400" y="2730600"/>
              <a:chExt cx="328680" cy="2928960"/>
            </a:xfrm>
          </p:grpSpPr>
          <p:sp>
            <p:nvSpPr>
              <p:cNvPr id="761" name=""/>
              <p:cNvSpPr/>
              <p:nvPr/>
            </p:nvSpPr>
            <p:spPr>
              <a:xfrm>
                <a:off x="1706400" y="2730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706400" y="2822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706400" y="291240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706400" y="3005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706400" y="30974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706400" y="3187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706400" y="327780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706400" y="33724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706400" y="3462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706400" y="35532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706400" y="36450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706400" y="37382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06400" y="3828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06400" y="3920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706400" y="401076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706400" y="4103640"/>
                <a:ext cx="328680" cy="91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706400" y="419580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706400" y="4285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706400" y="4376160"/>
                <a:ext cx="328680" cy="943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706400" y="44708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06400" y="4561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706400" y="46515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706400" y="474336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06400" y="4836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706400" y="49269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706400" y="5018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706400" y="5109120"/>
                <a:ext cx="32868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06400" y="52020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706400" y="529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706400" y="538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706400" y="5475600"/>
                <a:ext cx="32868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70640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1706400" y="2730600"/>
              <a:ext cx="328680" cy="2928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2532240" y="2906640"/>
            <a:ext cx="328320" cy="2752920"/>
            <a:chOff x="2532240" y="2906640"/>
            <a:chExt cx="328320" cy="2752920"/>
          </a:xfrm>
        </p:grpSpPr>
        <p:grpSp>
          <p:nvGrpSpPr>
            <p:cNvPr id="795" name=""/>
            <p:cNvGrpSpPr/>
            <p:nvPr/>
          </p:nvGrpSpPr>
          <p:grpSpPr>
            <a:xfrm>
              <a:off x="2532240" y="2906640"/>
              <a:ext cx="328320" cy="2752560"/>
              <a:chOff x="2532240" y="2906640"/>
              <a:chExt cx="328320" cy="2752560"/>
            </a:xfrm>
          </p:grpSpPr>
          <p:sp>
            <p:nvSpPr>
              <p:cNvPr id="796" name=""/>
              <p:cNvSpPr/>
              <p:nvPr/>
            </p:nvSpPr>
            <p:spPr>
              <a:xfrm>
                <a:off x="2532240" y="29066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2532240" y="29926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532240" y="30772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532240" y="31658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2532240" y="32508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2532240" y="3336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2532240" y="34210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32240" y="35103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32240" y="359496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32240" y="36806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32240" y="37656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32240" y="38541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32240" y="393876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32240" y="402480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32240" y="410940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32240" y="419832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32240" y="42832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532240" y="4368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532240" y="445356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32240" y="45424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532240" y="462708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532240" y="471276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532240" y="479772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532240" y="488664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532240" y="4971240"/>
                <a:ext cx="32832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532240" y="50572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532240" y="5141880"/>
                <a:ext cx="32832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532240" y="5230440"/>
                <a:ext cx="32832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532240" y="5315400"/>
                <a:ext cx="328320" cy="856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532240" y="540108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532240" y="5485680"/>
                <a:ext cx="32832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532240" y="5574960"/>
                <a:ext cx="32832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2532240" y="2906640"/>
              <a:ext cx="328320" cy="2752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357720" y="2863800"/>
            <a:ext cx="333360" cy="2795760"/>
            <a:chOff x="3357720" y="2863800"/>
            <a:chExt cx="333360" cy="2795760"/>
          </a:xfrm>
        </p:grpSpPr>
        <p:grpSp>
          <p:nvGrpSpPr>
            <p:cNvPr id="830" name=""/>
            <p:cNvGrpSpPr/>
            <p:nvPr/>
          </p:nvGrpSpPr>
          <p:grpSpPr>
            <a:xfrm>
              <a:off x="3357720" y="2863800"/>
              <a:ext cx="333360" cy="2795400"/>
              <a:chOff x="3357720" y="2863800"/>
              <a:chExt cx="333360" cy="2795400"/>
            </a:xfrm>
          </p:grpSpPr>
          <p:sp>
            <p:nvSpPr>
              <p:cNvPr id="831" name=""/>
              <p:cNvSpPr/>
              <p:nvPr/>
            </p:nvSpPr>
            <p:spPr>
              <a:xfrm>
                <a:off x="3357720" y="2863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357720" y="295092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357720" y="30355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357720" y="31248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357720" y="321192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357720" y="330084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57720" y="33854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357720" y="34743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357720" y="356184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7720" y="365076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357720" y="37353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357720" y="38239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357720" y="391140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357720" y="399888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357720" y="40852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357720" y="417276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357720" y="426132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357720" y="434880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357720" y="44348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357720" y="452232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357720" y="461124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357720" y="4698720"/>
                <a:ext cx="333360" cy="86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357720" y="47847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57720" y="4872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57720" y="4961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57720" y="5048640"/>
                <a:ext cx="333360" cy="846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357720" y="51332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57720" y="522216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57720" y="5309640"/>
                <a:ext cx="33336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357720" y="5398200"/>
                <a:ext cx="333360" cy="84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57720" y="5482800"/>
                <a:ext cx="33336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5572080"/>
                <a:ext cx="33336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" name=""/>
            <p:cNvSpPr/>
            <p:nvPr/>
          </p:nvSpPr>
          <p:spPr>
            <a:xfrm>
              <a:off x="3357720" y="2863800"/>
              <a:ext cx="333360" cy="2795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187880" y="2478240"/>
            <a:ext cx="328680" cy="3181320"/>
            <a:chOff x="4187880" y="2478240"/>
            <a:chExt cx="328680" cy="3181320"/>
          </a:xfrm>
        </p:grpSpPr>
        <p:grpSp>
          <p:nvGrpSpPr>
            <p:cNvPr id="865" name=""/>
            <p:cNvGrpSpPr/>
            <p:nvPr/>
          </p:nvGrpSpPr>
          <p:grpSpPr>
            <a:xfrm>
              <a:off x="4187880" y="2478240"/>
              <a:ext cx="328680" cy="3180960"/>
              <a:chOff x="4187880" y="2478240"/>
              <a:chExt cx="328680" cy="3180960"/>
            </a:xfrm>
          </p:grpSpPr>
          <p:sp>
            <p:nvSpPr>
              <p:cNvPr id="866" name=""/>
              <p:cNvSpPr/>
              <p:nvPr/>
            </p:nvSpPr>
            <p:spPr>
              <a:xfrm>
                <a:off x="4187880" y="24782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187880" y="2576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87880" y="2675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187880" y="277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187880" y="28738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187880" y="2975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187880" y="30744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187880" y="31730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187880" y="3273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187880" y="33724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7880" y="3471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187880" y="35704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87880" y="36694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87880" y="37710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187880" y="3870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187880" y="39690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187880" y="406800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187880" y="41684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4187880" y="4267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187880" y="43660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4187880" y="44650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187880" y="456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187880" y="4665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87880" y="47646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87880" y="4863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187880" y="4962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187880" y="50626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187880" y="5162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187880" y="5260680"/>
                <a:ext cx="328680" cy="101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1878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1878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1878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4187880" y="2478240"/>
              <a:ext cx="328680" cy="31813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013360" y="3241800"/>
            <a:ext cx="328680" cy="2417760"/>
            <a:chOff x="5013360" y="3241800"/>
            <a:chExt cx="328680" cy="2417760"/>
          </a:xfrm>
        </p:grpSpPr>
        <p:grpSp>
          <p:nvGrpSpPr>
            <p:cNvPr id="900" name=""/>
            <p:cNvGrpSpPr/>
            <p:nvPr/>
          </p:nvGrpSpPr>
          <p:grpSpPr>
            <a:xfrm>
              <a:off x="5013360" y="3241800"/>
              <a:ext cx="328680" cy="2417400"/>
              <a:chOff x="5013360" y="3241800"/>
              <a:chExt cx="328680" cy="2417400"/>
            </a:xfrm>
          </p:grpSpPr>
          <p:sp>
            <p:nvSpPr>
              <p:cNvPr id="901" name=""/>
              <p:cNvSpPr/>
              <p:nvPr/>
            </p:nvSpPr>
            <p:spPr>
              <a:xfrm>
                <a:off x="5013360" y="3241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013360" y="331596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013360" y="33937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13360" y="346824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13360" y="35456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13360" y="362016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13360" y="36961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13360" y="377064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13360" y="38455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13360" y="39229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013360" y="39974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013360" y="40734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013360" y="41479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13360" y="422532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013360" y="429984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013360" y="43758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013360" y="445032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013360" y="45252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013360" y="460260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13360" y="467712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013360" y="475452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13360" y="48276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013360" y="4905000"/>
                <a:ext cx="328680" cy="745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013360" y="49798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013360" y="505440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013360" y="5131800"/>
                <a:ext cx="328680" cy="73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013360" y="5204880"/>
                <a:ext cx="328680" cy="770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13360" y="528228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013360" y="5356800"/>
                <a:ext cx="328680" cy="774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013360" y="543456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013360" y="5508720"/>
                <a:ext cx="328680" cy="75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13360" y="5585040"/>
                <a:ext cx="328680" cy="741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5013360" y="3241800"/>
              <a:ext cx="328680" cy="24177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838840" y="2774880"/>
            <a:ext cx="328680" cy="2884680"/>
            <a:chOff x="5838840" y="2774880"/>
            <a:chExt cx="328680" cy="2884680"/>
          </a:xfrm>
        </p:grpSpPr>
        <p:grpSp>
          <p:nvGrpSpPr>
            <p:cNvPr id="935" name=""/>
            <p:cNvGrpSpPr/>
            <p:nvPr/>
          </p:nvGrpSpPr>
          <p:grpSpPr>
            <a:xfrm>
              <a:off x="5838840" y="2774880"/>
              <a:ext cx="328680" cy="2884680"/>
              <a:chOff x="5838840" y="2774880"/>
              <a:chExt cx="328680" cy="2884680"/>
            </a:xfrm>
          </p:grpSpPr>
          <p:sp>
            <p:nvSpPr>
              <p:cNvPr id="936" name=""/>
              <p:cNvSpPr/>
              <p:nvPr/>
            </p:nvSpPr>
            <p:spPr>
              <a:xfrm>
                <a:off x="5838840" y="277488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38840" y="286488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38840" y="29538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38840" y="30441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38840" y="31359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38840" y="32263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38840" y="33138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38840" y="34056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38840" y="3495960"/>
                <a:ext cx="328680" cy="90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8840" y="3585960"/>
                <a:ext cx="328680" cy="889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38840" y="36748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38840" y="37656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8840" y="385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38840" y="394740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38840" y="40348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38840" y="412668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38840" y="421704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38840" y="4307400"/>
                <a:ext cx="328680" cy="885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38840" y="43963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38840" y="448668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38840" y="457812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38840" y="466884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38840" y="47563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38840" y="48477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38840" y="493812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38840" y="502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38840" y="51174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38840" y="520776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38840" y="529956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38840" y="5389920"/>
                <a:ext cx="328680" cy="87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38840" y="5477400"/>
                <a:ext cx="328680" cy="91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38840" y="5569200"/>
                <a:ext cx="328680" cy="903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5838840" y="2774880"/>
              <a:ext cx="328680" cy="288468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664320" y="2595600"/>
            <a:ext cx="333360" cy="3063960"/>
            <a:chOff x="6664320" y="2595600"/>
            <a:chExt cx="333360" cy="3063960"/>
          </a:xfrm>
        </p:grpSpPr>
        <p:grpSp>
          <p:nvGrpSpPr>
            <p:cNvPr id="970" name=""/>
            <p:cNvGrpSpPr/>
            <p:nvPr/>
          </p:nvGrpSpPr>
          <p:grpSpPr>
            <a:xfrm>
              <a:off x="6664320" y="2595600"/>
              <a:ext cx="333360" cy="3063600"/>
              <a:chOff x="6664320" y="2595600"/>
              <a:chExt cx="333360" cy="3063600"/>
            </a:xfrm>
          </p:grpSpPr>
          <p:sp>
            <p:nvSpPr>
              <p:cNvPr id="971" name=""/>
              <p:cNvSpPr/>
              <p:nvPr/>
            </p:nvSpPr>
            <p:spPr>
              <a:xfrm>
                <a:off x="6664320" y="2595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64320" y="26917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664320" y="2789280"/>
                <a:ext cx="333360" cy="928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664320" y="28821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6664320" y="29782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664320" y="30744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664320" y="31719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664320" y="32652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664320" y="336096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664320" y="34574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64320" y="355320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664320" y="365076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64320" y="37440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64320" y="38401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664320" y="39358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664320" y="40334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664320" y="412668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664320" y="42228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664320" y="43189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664320" y="441468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664320" y="451224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64320" y="46058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664320" y="470160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664320" y="47977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664320" y="489384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664320" y="499140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664320" y="508464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664320" y="518040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664320" y="5276520"/>
                <a:ext cx="33336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664320" y="5374080"/>
                <a:ext cx="333360" cy="932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664320" y="5467320"/>
                <a:ext cx="33336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664320" y="5563080"/>
                <a:ext cx="33336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"/>
            <p:cNvSpPr/>
            <p:nvPr/>
          </p:nvSpPr>
          <p:spPr>
            <a:xfrm>
              <a:off x="6664320" y="2595600"/>
              <a:ext cx="333360" cy="306396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7494480" y="2496960"/>
            <a:ext cx="328680" cy="3162600"/>
            <a:chOff x="7494480" y="2496960"/>
            <a:chExt cx="328680" cy="3162600"/>
          </a:xfrm>
        </p:grpSpPr>
        <p:grpSp>
          <p:nvGrpSpPr>
            <p:cNvPr id="1005" name=""/>
            <p:cNvGrpSpPr/>
            <p:nvPr/>
          </p:nvGrpSpPr>
          <p:grpSpPr>
            <a:xfrm>
              <a:off x="7494480" y="2496960"/>
              <a:ext cx="328680" cy="3162240"/>
              <a:chOff x="7494480" y="2496960"/>
              <a:chExt cx="328680" cy="3162240"/>
            </a:xfrm>
          </p:grpSpPr>
          <p:sp>
            <p:nvSpPr>
              <p:cNvPr id="1006" name=""/>
              <p:cNvSpPr/>
              <p:nvPr/>
            </p:nvSpPr>
            <p:spPr>
              <a:xfrm>
                <a:off x="7494480" y="24969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494480" y="25956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494480" y="2694600"/>
                <a:ext cx="328680" cy="100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494480" y="279504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494480" y="28940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94480" y="2993040"/>
                <a:ext cx="328680" cy="957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494480" y="308880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494480" y="3187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94480" y="3286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94480" y="338580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494480" y="34844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494480" y="3584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494480" y="368388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494480" y="3782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494480" y="38818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494480" y="3980520"/>
                <a:ext cx="328680" cy="961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494480" y="4076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494480" y="417564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494480" y="4274640"/>
                <a:ext cx="328680" cy="1004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494480" y="437508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494480" y="4473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494480" y="457272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494480" y="4671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494480" y="47707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494480" y="48693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94480" y="49683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94480" y="5067360"/>
                <a:ext cx="328680" cy="97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94480" y="5164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94480" y="526392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94480" y="5362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94480" y="5461560"/>
                <a:ext cx="328680" cy="990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4480" y="5560560"/>
                <a:ext cx="328680" cy="9864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8" name=""/>
            <p:cNvSpPr/>
            <p:nvPr/>
          </p:nvSpPr>
          <p:spPr>
            <a:xfrm>
              <a:off x="7494480" y="2496960"/>
              <a:ext cx="328680" cy="316260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8319960" y="1806480"/>
            <a:ext cx="328680" cy="3850920"/>
            <a:chOff x="8319960" y="1806480"/>
            <a:chExt cx="328680" cy="3850920"/>
          </a:xfrm>
        </p:grpSpPr>
        <p:grpSp>
          <p:nvGrpSpPr>
            <p:cNvPr id="1040" name=""/>
            <p:cNvGrpSpPr/>
            <p:nvPr/>
          </p:nvGrpSpPr>
          <p:grpSpPr>
            <a:xfrm>
              <a:off x="8319960" y="1806480"/>
              <a:ext cx="328680" cy="3850200"/>
              <a:chOff x="8319960" y="1806480"/>
              <a:chExt cx="328680" cy="3850200"/>
            </a:xfrm>
          </p:grpSpPr>
          <p:sp>
            <p:nvSpPr>
              <p:cNvPr id="1041" name=""/>
              <p:cNvSpPr/>
              <p:nvPr/>
            </p:nvSpPr>
            <p:spPr>
              <a:xfrm>
                <a:off x="8319960" y="1806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8319960" y="1925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319960" y="20440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8319960" y="216828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8319960" y="22896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8319960" y="24087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8319960" y="2527560"/>
                <a:ext cx="328680" cy="1234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8319960" y="26514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8319960" y="277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8319960" y="28893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8319960" y="30081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8319960" y="313236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8319960" y="32508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319960" y="3369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8319960" y="34887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319960" y="36129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8319960" y="373212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8319960" y="385020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8319960" y="396936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8319960" y="409356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319960" y="4212360"/>
                <a:ext cx="328680" cy="12096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8319960" y="43336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8319960" y="44528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8319960" y="457704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8319960" y="46954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8319960" y="48142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8319960" y="493344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8319960" y="50576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319960" y="517644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19960" y="5295600"/>
                <a:ext cx="328680" cy="11808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8319960" y="5413680"/>
                <a:ext cx="328680" cy="1242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8319960" y="5537880"/>
                <a:ext cx="328680" cy="11880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5e75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8319960" y="1806480"/>
              <a:ext cx="328680" cy="38509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5e75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31920" y="1457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1440" y="14590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3520" y="13399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1193760" y="1447560"/>
            <a:ext cx="7464600" cy="12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8664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7905600" y="1371600"/>
            <a:ext cx="328680" cy="4287600"/>
            <a:chOff x="7905600" y="1371600"/>
            <a:chExt cx="328680" cy="4287600"/>
          </a:xfrm>
        </p:grpSpPr>
        <p:grpSp>
          <p:nvGrpSpPr>
            <p:cNvPr id="1080" name=""/>
            <p:cNvGrpSpPr/>
            <p:nvPr/>
          </p:nvGrpSpPr>
          <p:grpSpPr>
            <a:xfrm>
              <a:off x="7905600" y="1371600"/>
              <a:ext cx="328680" cy="4287240"/>
              <a:chOff x="7905600" y="1371600"/>
              <a:chExt cx="328680" cy="4287240"/>
            </a:xfrm>
          </p:grpSpPr>
          <p:sp>
            <p:nvSpPr>
              <p:cNvPr id="1081" name=""/>
              <p:cNvSpPr/>
              <p:nvPr/>
            </p:nvSpPr>
            <p:spPr>
              <a:xfrm>
                <a:off x="7905600" y="13716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905600" y="143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905600" y="15037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905600" y="1575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905600" y="1641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905600" y="17071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905600" y="1773720"/>
                <a:ext cx="328680" cy="62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905600" y="18363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905600" y="19080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905600" y="197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905600" y="20404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05600" y="21063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905600" y="2172240"/>
                <a:ext cx="328680" cy="716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905600" y="22442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905600" y="23101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905600" y="23760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905600" y="24418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905600" y="25084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905600" y="2579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905600" y="2645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905600" y="27115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905600" y="27774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905600" y="2844000"/>
                <a:ext cx="328680" cy="680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905600" y="2912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905600" y="297828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905600" y="30448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905600" y="31107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905600" y="31766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905600" y="3247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905600" y="33141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905600" y="338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905600" y="34466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905600" y="351252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905600" y="358380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905600" y="36504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905600" y="37162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905600" y="37821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905600" y="38534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905600" y="3919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905600" y="39859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905600" y="4051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905600" y="4117680"/>
                <a:ext cx="328680" cy="687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905600" y="41868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5600" y="42526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5600" y="43185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905600" y="43844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905600" y="44510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905600" y="45223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905600" y="4588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905600" y="465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905600" y="472032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905600" y="478656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905600" y="485784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905600" y="492408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905600" y="4989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905600" y="505584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905600" y="512244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05600" y="519372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905600" y="5259600"/>
                <a:ext cx="328680" cy="6336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905600" y="532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905600" y="538920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905600" y="5455080"/>
                <a:ext cx="328680" cy="712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905600" y="5526360"/>
                <a:ext cx="328680" cy="6624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05600" y="5592960"/>
                <a:ext cx="328680" cy="65880"/>
              </a:xfrm>
              <a:prstGeom prst="rect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175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905600" y="1371600"/>
              <a:ext cx="328680" cy="4287600"/>
            </a:xfrm>
            <a:prstGeom prst="rect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75e5e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B1F53-D373-4C2C-A370-7186F676B201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hl der Kreditzusagen und Zusagevolumen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1295280" y="1147680"/>
            <a:ext cx="8313840" cy="5176800"/>
          </a:xfrm>
          <a:prstGeom prst="rect">
            <a:avLst/>
          </a:prstGeom>
          <a:ln w="0">
            <a:noFill/>
          </a:ln>
        </p:spPr>
      </p:pic>
      <p:sp>
        <p:nvSpPr>
          <p:cNvPr id="1148" name=""/>
          <p:cNvSpPr/>
          <p:nvPr/>
        </p:nvSpPr>
        <p:spPr>
          <a:xfrm rot="16217400">
            <a:off x="84960" y="28861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ex 1991 =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FB616-40AD-4012-AFC3-4EF864692350}" type="slidenum">
              <a:t>5</a:t>
            </a:fld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usagevolumen in TDM pro Zusage in den KfW-Programmen für den Mittelstand nach durchleitenden Bank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208160" y="1150920"/>
            <a:ext cx="8316720" cy="517356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8604360" y="5715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EC8C9-5667-4E79-82D9-EC02ECDFFF0F}" type="slidenum">
              <a:t>6</a:t>
            </a:fld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ile der durchleitenden Banken am Zusagevolumen der KfW-Programme für den Mittelst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54200" y="50180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554200" y="46324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54200" y="424656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54200" y="385920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54200" y="347508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554200" y="3087720"/>
            <a:ext cx="6707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54200" y="270180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554200" y="231444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554200" y="193032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554200" y="1542960"/>
            <a:ext cx="6707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54200" y="1542960"/>
            <a:ext cx="6707160" cy="386100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1717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554200" y="2725560"/>
            <a:ext cx="6707160" cy="2678400"/>
          </a:xfrm>
          <a:custGeom>
            <a:avLst/>
            <a:gdLst/>
            <a:ahLst/>
            <a:rect l="l" t="t" r="r" b="b"/>
            <a:pathLst>
              <a:path w="8451" h="3376">
                <a:moveTo>
                  <a:pt x="0" y="3376"/>
                </a:moveTo>
                <a:lnTo>
                  <a:pt x="0" y="0"/>
                </a:lnTo>
                <a:lnTo>
                  <a:pt x="939" y="225"/>
                </a:lnTo>
                <a:lnTo>
                  <a:pt x="1879" y="795"/>
                </a:lnTo>
                <a:lnTo>
                  <a:pt x="2817" y="897"/>
                </a:lnTo>
                <a:lnTo>
                  <a:pt x="3757" y="920"/>
                </a:lnTo>
                <a:lnTo>
                  <a:pt x="4695" y="1124"/>
                </a:lnTo>
                <a:lnTo>
                  <a:pt x="5635" y="1257"/>
                </a:lnTo>
                <a:lnTo>
                  <a:pt x="6573" y="1329"/>
                </a:lnTo>
                <a:lnTo>
                  <a:pt x="7513" y="1587"/>
                </a:lnTo>
                <a:lnTo>
                  <a:pt x="8451" y="1763"/>
                </a:lnTo>
                <a:lnTo>
                  <a:pt x="8451" y="3376"/>
                </a:lnTo>
                <a:lnTo>
                  <a:pt x="7513" y="3376"/>
                </a:lnTo>
                <a:lnTo>
                  <a:pt x="6573" y="3376"/>
                </a:lnTo>
                <a:lnTo>
                  <a:pt x="5635" y="3376"/>
                </a:lnTo>
                <a:lnTo>
                  <a:pt x="4695" y="3376"/>
                </a:lnTo>
                <a:lnTo>
                  <a:pt x="3757" y="3376"/>
                </a:lnTo>
                <a:lnTo>
                  <a:pt x="2817" y="3376"/>
                </a:lnTo>
                <a:lnTo>
                  <a:pt x="1879" y="3376"/>
                </a:lnTo>
                <a:lnTo>
                  <a:pt x="939" y="3376"/>
                </a:lnTo>
                <a:lnTo>
                  <a:pt x="0" y="337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554200" y="1960560"/>
            <a:ext cx="6707160" cy="2163600"/>
          </a:xfrm>
          <a:custGeom>
            <a:avLst/>
            <a:gdLst/>
            <a:ahLst/>
            <a:rect l="l" t="t" r="r" b="b"/>
            <a:pathLst>
              <a:path w="8451" h="2727">
                <a:moveTo>
                  <a:pt x="0" y="964"/>
                </a:moveTo>
                <a:lnTo>
                  <a:pt x="0" y="0"/>
                </a:lnTo>
                <a:lnTo>
                  <a:pt x="939" y="154"/>
                </a:lnTo>
                <a:lnTo>
                  <a:pt x="1879" y="410"/>
                </a:lnTo>
                <a:lnTo>
                  <a:pt x="2817" y="455"/>
                </a:lnTo>
                <a:lnTo>
                  <a:pt x="3757" y="488"/>
                </a:lnTo>
                <a:lnTo>
                  <a:pt x="4695" y="469"/>
                </a:lnTo>
                <a:lnTo>
                  <a:pt x="5635" y="551"/>
                </a:lnTo>
                <a:lnTo>
                  <a:pt x="6573" y="527"/>
                </a:lnTo>
                <a:lnTo>
                  <a:pt x="7513" y="641"/>
                </a:lnTo>
                <a:lnTo>
                  <a:pt x="8451" y="513"/>
                </a:lnTo>
                <a:lnTo>
                  <a:pt x="8451" y="2727"/>
                </a:lnTo>
                <a:lnTo>
                  <a:pt x="7513" y="2551"/>
                </a:lnTo>
                <a:lnTo>
                  <a:pt x="6573" y="2293"/>
                </a:lnTo>
                <a:lnTo>
                  <a:pt x="5635" y="2221"/>
                </a:lnTo>
                <a:lnTo>
                  <a:pt x="4695" y="2088"/>
                </a:lnTo>
                <a:lnTo>
                  <a:pt x="3757" y="1884"/>
                </a:lnTo>
                <a:lnTo>
                  <a:pt x="2817" y="1861"/>
                </a:lnTo>
                <a:lnTo>
                  <a:pt x="1879" y="1759"/>
                </a:lnTo>
                <a:lnTo>
                  <a:pt x="939" y="1189"/>
                </a:lnTo>
                <a:lnTo>
                  <a:pt x="0" y="9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554200" y="1544760"/>
            <a:ext cx="6707160" cy="923760"/>
          </a:xfrm>
          <a:custGeom>
            <a:avLst/>
            <a:gdLst/>
            <a:ahLst/>
            <a:rect l="l" t="t" r="r" b="b"/>
            <a:pathLst>
              <a:path w="8451" h="1164">
                <a:moveTo>
                  <a:pt x="0" y="523"/>
                </a:moveTo>
                <a:lnTo>
                  <a:pt x="0" y="43"/>
                </a:lnTo>
                <a:lnTo>
                  <a:pt x="939" y="36"/>
                </a:lnTo>
                <a:lnTo>
                  <a:pt x="1879" y="20"/>
                </a:lnTo>
                <a:lnTo>
                  <a:pt x="2817" y="31"/>
                </a:lnTo>
                <a:lnTo>
                  <a:pt x="3757" y="12"/>
                </a:lnTo>
                <a:lnTo>
                  <a:pt x="4695" y="6"/>
                </a:lnTo>
                <a:lnTo>
                  <a:pt x="5635" y="5"/>
                </a:lnTo>
                <a:lnTo>
                  <a:pt x="6573" y="24"/>
                </a:lnTo>
                <a:lnTo>
                  <a:pt x="7513" y="13"/>
                </a:lnTo>
                <a:lnTo>
                  <a:pt x="8451" y="0"/>
                </a:lnTo>
                <a:lnTo>
                  <a:pt x="8451" y="1036"/>
                </a:lnTo>
                <a:lnTo>
                  <a:pt x="7513" y="1164"/>
                </a:lnTo>
                <a:lnTo>
                  <a:pt x="6573" y="1050"/>
                </a:lnTo>
                <a:lnTo>
                  <a:pt x="5635" y="1074"/>
                </a:lnTo>
                <a:lnTo>
                  <a:pt x="4695" y="992"/>
                </a:lnTo>
                <a:lnTo>
                  <a:pt x="3757" y="1011"/>
                </a:lnTo>
                <a:lnTo>
                  <a:pt x="2817" y="978"/>
                </a:lnTo>
                <a:lnTo>
                  <a:pt x="1879" y="933"/>
                </a:lnTo>
                <a:lnTo>
                  <a:pt x="939" y="677"/>
                </a:lnTo>
                <a:lnTo>
                  <a:pt x="0" y="5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554200" y="1542960"/>
            <a:ext cx="6707160" cy="34920"/>
          </a:xfrm>
          <a:custGeom>
            <a:avLst/>
            <a:gdLst/>
            <a:ahLst/>
            <a:rect l="l" t="t" r="r" b="b"/>
            <a:pathLst>
              <a:path w="8451" h="45">
                <a:moveTo>
                  <a:pt x="0" y="45"/>
                </a:moveTo>
                <a:lnTo>
                  <a:pt x="0" y="0"/>
                </a:lnTo>
                <a:lnTo>
                  <a:pt x="939" y="0"/>
                </a:lnTo>
                <a:lnTo>
                  <a:pt x="1879" y="0"/>
                </a:lnTo>
                <a:lnTo>
                  <a:pt x="2817" y="0"/>
                </a:lnTo>
                <a:lnTo>
                  <a:pt x="3757" y="0"/>
                </a:lnTo>
                <a:lnTo>
                  <a:pt x="4695" y="0"/>
                </a:lnTo>
                <a:lnTo>
                  <a:pt x="5635" y="0"/>
                </a:lnTo>
                <a:lnTo>
                  <a:pt x="6573" y="0"/>
                </a:lnTo>
                <a:lnTo>
                  <a:pt x="7513" y="0"/>
                </a:lnTo>
                <a:lnTo>
                  <a:pt x="8451" y="0"/>
                </a:lnTo>
                <a:lnTo>
                  <a:pt x="8451" y="2"/>
                </a:lnTo>
                <a:lnTo>
                  <a:pt x="7513" y="15"/>
                </a:lnTo>
                <a:lnTo>
                  <a:pt x="6573" y="26"/>
                </a:lnTo>
                <a:lnTo>
                  <a:pt x="5635" y="7"/>
                </a:lnTo>
                <a:lnTo>
                  <a:pt x="4695" y="8"/>
                </a:lnTo>
                <a:lnTo>
                  <a:pt x="3757" y="14"/>
                </a:lnTo>
                <a:lnTo>
                  <a:pt x="2817" y="33"/>
                </a:lnTo>
                <a:lnTo>
                  <a:pt x="1879" y="22"/>
                </a:lnTo>
                <a:lnTo>
                  <a:pt x="939" y="38"/>
                </a:lnTo>
                <a:lnTo>
                  <a:pt x="0" y="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554200" y="1542960"/>
            <a:ext cx="1800" cy="3861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484360" y="54039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484360" y="50180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4360" y="46324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484360" y="424656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484360" y="385920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484360" y="347508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484360" y="3087720"/>
            <a:ext cx="69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484360" y="270180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484360" y="231444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484360" y="193032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84360" y="1542960"/>
            <a:ext cx="69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554200" y="5403960"/>
            <a:ext cx="6707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255420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2986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4044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478944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53572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628020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702612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7770960" y="5403960"/>
            <a:ext cx="144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851688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9261360" y="5403960"/>
            <a:ext cx="1800" cy="69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358240" y="43005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358240" y="27702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358240" y="18194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42040" y="39355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763480" y="46116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91280" y="22129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763480" y="3127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565720" y="1638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8763480" y="18367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102040" y="5273640"/>
            <a:ext cx="32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73520" y="48880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973520" y="45021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973520" y="41162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973520" y="37288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973520" y="334332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973520" y="295740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973520" y="257184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973520" y="218448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973520" y="1800360"/>
            <a:ext cx="456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847520" y="14130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350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0952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41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8604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3323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07680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82272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5675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831348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057960" y="56023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762200" y="6108840"/>
            <a:ext cx="141120" cy="141120"/>
          </a:xfrm>
          <a:prstGeom prst="rect">
            <a:avLst/>
          </a:prstGeom>
          <a:solidFill>
            <a:srgbClr val="333399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10600" y="604836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vatban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392640" y="6108840"/>
            <a:ext cx="141120" cy="141120"/>
          </a:xfrm>
          <a:prstGeom prst="rect">
            <a:avLst/>
          </a:prstGeom>
          <a:solidFill>
            <a:srgbClr val="ff00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42840" y="6048360"/>
            <a:ext cx="182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rkassen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521320" y="6108840"/>
            <a:ext cx="141120" cy="14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773680" y="6048360"/>
            <a:ext cx="238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nossenschaftsse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11960" y="6108840"/>
            <a:ext cx="141480" cy="14112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459640" y="6048360"/>
            <a:ext cx="88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nsti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788320" y="5791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s 31.0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0FCB0-26AA-4BD6-9FCC-90816DA3CB2E}" type="slidenum">
              <a:t>7</a:t>
            </a:fld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usgangslage im Bankensekt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888920" y="2285640"/>
            <a:ext cx="7553160" cy="6858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Ertragskraf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890720" y="3124080"/>
            <a:ext cx="7553160" cy="5335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he Personalkost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890720" y="3733920"/>
            <a:ext cx="7553160" cy="5331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ichtes Zweigstellennet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889280" y="4419720"/>
            <a:ext cx="7553160" cy="60948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ringe Konzent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C3312-BDB2-4357-A8A7-705636EBC3C0}" type="slidenum">
              <a:t>8</a:t>
            </a:fld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a1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752120" y="355320"/>
            <a:ext cx="7734600" cy="965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twicklungen im Finanzierungsmark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47920" y="3428640"/>
            <a:ext cx="7937280" cy="121932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txBody>
          <a:bodyPr anchor="ctr" anchorCtr="1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Deregulierung, Globalisierung, Shareholder-val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Renditeerwartungen und Konzentrationswell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447920" y="1523880"/>
            <a:ext cx="7937280" cy="160020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Fortschritte in der Informations- und Telekommunikationstechnologi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steigende Markttransparenz, sinkende Marktzutritts-kosten, neue Produkte, intensiverer Wettbewer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54040" y="4952880"/>
            <a:ext cx="7937640" cy="1247760"/>
          </a:xfrm>
          <a:prstGeom prst="rect">
            <a:avLst/>
          </a:prstGeom>
          <a:solidFill>
            <a:srgbClr val="6d7a87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atalysator, aufnahmefähigere Kapitalmärk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j:\ksb1\sctz\2000\folien\Irsch_Enquete.pp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BC00-9819-46C1-8030-B9954A568AC4}" type="slidenum">
              <a:t>9</a:t>
            </a:fld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09:22:33Z</dcterms:created>
  <dc:creator/>
  <dc:description/>
  <dc:language>en-US</dc:language>
  <cp:lastModifiedBy>Klaus Braun</cp:lastModifiedBy>
  <cp:lastPrinted>2000-10-30T09:09:29Z</cp:lastPrinted>
  <dcterms:modified xsi:type="dcterms:W3CDTF">2000-10-30T15:09:45Z</dcterms:modified>
  <cp:revision>47</cp:revision>
  <dc:subject>Mittelstandsfinanzierung/Enquete</dc:subject>
  <dc:title>Vortrag Dr. Irsch 26.06.2000</dc:title>
</cp:coreProperties>
</file>