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2683-4A9B-4FE7-8BBB-966D1EEF3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04EF-D5DC-449A-9172-676F5ED4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0865-32EE-4FC3-8C9E-14CC686A3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6109-8494-49F9-A823-174A30C85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CBC3-066A-40C9-8C98-9A80C6EC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C76B-0A0E-4FF5-81C5-6AE19D97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9012-5571-4790-B7D4-1BD6DF78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7C3A-82CC-447C-83D2-1F44AC6C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D2A5-E53E-4994-B3BD-84712440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37AB-24BF-48D9-A3BD-4963EB52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8820-DA78-479B-95F3-A432612A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EB4A-5A55-4EFD-9528-64E428B8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17AC-E30B-496A-ACF9-C6AB638B1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278000" y="609480"/>
            <a:ext cx="7713360" cy="5218920"/>
            <a:chOff x="1278000" y="609480"/>
            <a:chExt cx="7713360" cy="5218920"/>
          </a:xfrm>
        </p:grpSpPr>
        <p:sp>
          <p:nvSpPr>
            <p:cNvPr id="42" name=""/>
            <p:cNvSpPr/>
            <p:nvPr/>
          </p:nvSpPr>
          <p:spPr>
            <a:xfrm>
              <a:off x="1282680" y="609480"/>
              <a:ext cx="708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600" spc="-1" strike="noStrike">
                  <a:solidFill>
                    <a:srgbClr val="3333cc"/>
                  </a:solidFill>
                  <a:latin typeface="Arial"/>
                </a:rPr>
                <a:t>Auswirkungen von Feinstäube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294920" y="1228680"/>
              <a:ext cx="7621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314720" y="1228680"/>
              <a:ext cx="236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(Schweiz, 199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78000" y="1917000"/>
              <a:ext cx="6525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3.800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vorzeitige Todesfälle</a:t>
              </a:r>
              <a:br>
                <a:rPr sz="3200"/>
              </a:b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  38.000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Fälle chron. Bronchitis</a:t>
              </a:r>
              <a:br>
                <a:rPr sz="3200"/>
              </a:b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 2,6 Mill.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Asthma-Anfäl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66920" y="3636360"/>
              <a:ext cx="72734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791.000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Tage Arbeitsunfähigkeit</a:t>
              </a:r>
              <a:br>
                <a:rPr sz="3200"/>
              </a:b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 22.900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Tage im Krankenhau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durch Atemwegs-/Herzerkrankung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70520" y="3500280"/>
              <a:ext cx="76208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70520" y="5221080"/>
              <a:ext cx="76208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99240" y="5460120"/>
              <a:ext cx="338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Bundesärztekammer 08.07.97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836640" y="430200"/>
            <a:ext cx="8598600" cy="5911200"/>
            <a:chOff x="836640" y="430200"/>
            <a:chExt cx="8598600" cy="5911200"/>
          </a:xfrm>
        </p:grpSpPr>
        <p:sp>
          <p:nvSpPr>
            <p:cNvPr id="52" name=""/>
            <p:cNvSpPr/>
            <p:nvPr/>
          </p:nvSpPr>
          <p:spPr>
            <a:xfrm>
              <a:off x="1432080" y="1006560"/>
              <a:ext cx="1839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15120" y="1676520"/>
              <a:ext cx="8520120" cy="46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90 %</a:t>
              </a: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     der Stäube in Atmosphäre &lt;10 µm</a:t>
              </a: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br>
                <a:rPr sz="2800"/>
              </a:b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     (P.J. CRUTZEN, 1994) stammen aus</a:t>
              </a:r>
              <a:br>
                <a:rPr sz="2800"/>
              </a:b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     anthropogenen Verbrennungsprozessen</a:t>
              </a:r>
              <a:br>
                <a:rPr sz="2800"/>
              </a:br>
              <a:br>
                <a:rPr sz="2800"/>
              </a:b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87,5 %    PCDD/F an Partikeln &lt; 2 µm angelagert</a:t>
              </a:r>
              <a:br>
                <a:rPr sz="2800"/>
              </a:b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      (EPA, 1994) diese bestens alveolengängig!</a:t>
              </a:r>
              <a:br>
                <a:rPr sz="2800"/>
              </a:br>
              <a:br>
                <a:rPr sz="2800"/>
              </a:b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100 %    Bioverfügbarkeit dieser Substanzen</a:t>
              </a:r>
              <a:br>
                <a:rPr sz="2800"/>
              </a:b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     (C.S. NESSEL et al, 1990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6640" y="430200"/>
              <a:ext cx="822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Staubpartikel, halogenierte Kohlenwasserstoff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14400" y="1219320"/>
              <a:ext cx="8001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8767800" cy="4668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287000" y="762120"/>
            <a:ext cx="7781040" cy="4800600"/>
            <a:chOff x="1287000" y="762120"/>
            <a:chExt cx="7781040" cy="4800600"/>
          </a:xfrm>
        </p:grpSpPr>
        <p:sp>
          <p:nvSpPr>
            <p:cNvPr id="60" name=""/>
            <p:cNvSpPr/>
            <p:nvPr/>
          </p:nvSpPr>
          <p:spPr>
            <a:xfrm>
              <a:off x="1292400" y="762120"/>
              <a:ext cx="609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PCBs  -  chronische Belastu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71600" y="1447920"/>
              <a:ext cx="7620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87000" y="1829160"/>
              <a:ext cx="778104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Neuromuskuläre Schwäche bei Kindern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Fein, 198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visual recognition memory reduziert (Säuglinge)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JACOBSON, 1985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Kurzzeitgedächtnis vermindert (Kinder)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JACOBSON, 199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Hypoton, Hyporeflexie, Hypothyreose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ROGAN, 1986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niedrig chlorierte PCBs passieren Plazen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4572360"/>
              <a:ext cx="7620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71600" y="5562720"/>
              <a:ext cx="7620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8077320" cy="5465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08:01:58Z</dcterms:created>
  <dc:creator>Dorothee&amp;Lukas&amp;André Bönsch</dc:creator>
  <dc:description/>
  <dc:language>en-US</dc:language>
  <cp:lastModifiedBy>User</cp:lastModifiedBy>
  <dcterms:modified xsi:type="dcterms:W3CDTF">2002-01-14T16:01:39Z</dcterms:modified>
  <cp:revision>3</cp:revision>
  <dc:subject/>
  <dc:title>Kein Folientitel</dc:title>
</cp:coreProperties>
</file>