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E46-AB5E-488C-9D3F-8B74F140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A96-A59D-412B-8603-9F27EBB9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03A-5E0C-4E92-8FD7-0DE63865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DC2-53D8-498D-ACDD-6FA5062F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930-4D2C-40F2-B23E-44379298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E58-9F78-48CF-98A8-DD8F308D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E74-E08D-48C0-8940-B35F1180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EA1-C471-4EAB-AF1F-7BB8830E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E68-3143-4AC4-99BD-41D6F6F0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E03-851A-461A-A711-EBF6621A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D53-C5D5-47D9-812D-87F2DB31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745-FFB8-4503-9045-E1CF0ECD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DA80-1825-41D8-B10C-9B4593A87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8053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520" y="90676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39:21Z</dcterms:created>
  <dc:creator>Dorothee&amp;Lukas&amp;André Bönsch</dc:creator>
  <dc:description/>
  <dc:language>en-US</dc:language>
  <cp:lastModifiedBy>Deutscher Bundestag</cp:lastModifiedBy>
  <cp:lastPrinted>2002-01-10T13:53:14Z</cp:lastPrinted>
  <dcterms:modified xsi:type="dcterms:W3CDTF">2002-01-15T09:24:37Z</dcterms:modified>
  <cp:revision>3</cp:revision>
  <dc:subject/>
  <dc:title>Kein Folientitel</dc:title>
</cp:coreProperties>
</file>