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10F-976D-48A0-9436-972E21A0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2BA-4C32-432E-AA86-B630E646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EF1-83A5-4E3B-8FBE-FD8ACBF0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D25-8CF1-4780-A01C-103F51D4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75F-D505-4043-A90A-1A8730F1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A33-E3C1-4AED-93E4-F35D7500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8FD-0733-4ED7-9E3F-BD06BC3F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4A4-F908-4168-B458-186A4DE1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27F-35A6-4EBC-8460-43806B30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323-633B-4D39-8A21-29AE741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C8C-9A0D-4DAE-B6D8-597245E2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A83-ECDF-49B8-92CE-6B2202BD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F088-6316-45C0-8A3A-1C7E260DC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78000" y="609480"/>
            <a:ext cx="7713360" cy="5218920"/>
            <a:chOff x="1278000" y="609480"/>
            <a:chExt cx="7713360" cy="5218920"/>
          </a:xfrm>
        </p:grpSpPr>
        <p:sp>
          <p:nvSpPr>
            <p:cNvPr id="42" name=""/>
            <p:cNvSpPr/>
            <p:nvPr/>
          </p:nvSpPr>
          <p:spPr>
            <a:xfrm>
              <a:off x="1282680" y="609480"/>
              <a:ext cx="70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3333cc"/>
                  </a:solidFill>
                  <a:latin typeface="Arial"/>
                </a:rPr>
                <a:t>Auswirkungen von Feinstäub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94920" y="1228680"/>
              <a:ext cx="7621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4720" y="12286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Schweiz, 199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1917000"/>
              <a:ext cx="652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3.8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vorzeitige Todesfälle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38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Fälle chron. Bronchitis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,6 Mill.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Asthma-Anfä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6920" y="3636360"/>
              <a:ext cx="7273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791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Arbeitsunfähigkeit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2.9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im Krankenha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durch Atemwegs-/Herzerkrankung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0520" y="35002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0520" y="52210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9240" y="5460120"/>
              <a:ext cx="33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Bundesärztekammer 08.07.9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6640" y="430200"/>
            <a:ext cx="8598600" cy="5911200"/>
            <a:chOff x="836640" y="430200"/>
            <a:chExt cx="8598600" cy="5911200"/>
          </a:xfrm>
        </p:grpSpPr>
        <p:sp>
          <p:nvSpPr>
            <p:cNvPr id="52" name=""/>
            <p:cNvSpPr/>
            <p:nvPr/>
          </p:nvSpPr>
          <p:spPr>
            <a:xfrm>
              <a:off x="1432080" y="10065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120" y="1676520"/>
              <a:ext cx="8520120" cy="46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90 %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    der Stäube in Atmosphäre &lt;10 µm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P.J. CRUTZEN, 1994) stammen aus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anthropogenen Verbrennungsprozessen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87,5 %    PCDD/F an Partikeln &lt; 2 µm angelagert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(EPA, 1994) diese bestens alveolengängig!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100 %    Bioverfügbarkeit dieser Substanzen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C.S. NESSEL et al, 199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430200"/>
              <a:ext cx="82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taubpartikel, halogenierte Kohlenwasserstof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1219320"/>
              <a:ext cx="8001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767800" cy="466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287000" y="762120"/>
            <a:ext cx="7781040" cy="4800600"/>
            <a:chOff x="1287000" y="762120"/>
            <a:chExt cx="7781040" cy="4800600"/>
          </a:xfrm>
        </p:grpSpPr>
        <p:sp>
          <p:nvSpPr>
            <p:cNvPr id="60" name=""/>
            <p:cNvSpPr/>
            <p:nvPr/>
          </p:nvSpPr>
          <p:spPr>
            <a:xfrm>
              <a:off x="1292400" y="762120"/>
              <a:ext cx="60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PCBs  -  chronische Belast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14479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87000" y="1829160"/>
              <a:ext cx="7781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euromuskuläre Schwäche bei Kindern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Fein, 198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isual recognition memory reduziert (Säuglinge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8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urzzeitgedächtnis vermindert (Kinder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ypoton, Hyporeflexie, Hypothyreose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ROGAN, 198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edrig chlorierte PCBs passieren Plaz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57236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5627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07732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01:58Z</dcterms:created>
  <dc:creator>Dorothee&amp;Lukas&amp;André Bönsch</dc:creator>
  <dc:description/>
  <dc:language>en-US</dc:language>
  <cp:lastModifiedBy>User</cp:lastModifiedBy>
  <dcterms:modified xsi:type="dcterms:W3CDTF">2002-01-14T16:01:39Z</dcterms:modified>
  <cp:revision>3</cp:revision>
  <dc:subject/>
  <dc:title>Kein Folientitel</dc:title>
</cp:coreProperties>
</file>