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105650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9BE-51D7-4ABD-B85B-B11D9EF7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CEB-6679-4F59-B0D5-47A3F64F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4E53-57FF-4472-9A6A-EDB92C75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EDBC-9615-47C7-AFD2-19F220D9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35DB-D20A-4AFA-90CD-267070DA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DD5-5EFE-4EB7-AB5A-D147F5DA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738D-0775-4947-BE75-730B5C08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8437-54ED-4D50-8EC1-B25F0BE7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FAF6-60A0-41CA-BBE8-0809E844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A59-A907-4D44-9F94-4D126D67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45DB-6341-4133-B594-1E11D323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6C9-BCD3-4BC9-A74C-D3A47FC4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141E-D0CB-4746-A2BB-9D61F3F7B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5805360" cy="777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64520" y="90676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8:39:21Z</dcterms:created>
  <dc:creator>Dorothee&amp;Lukas&amp;André Bönsch</dc:creator>
  <dc:description/>
  <dc:language>en-US</dc:language>
  <cp:lastModifiedBy>Deutscher Bundestag</cp:lastModifiedBy>
  <cp:lastPrinted>2002-01-10T13:53:14Z</cp:lastPrinted>
  <dcterms:modified xsi:type="dcterms:W3CDTF">2002-01-15T09:24:37Z</dcterms:modified>
  <cp:revision>3</cp:revision>
  <dc:subject/>
  <dc:title>Kein Folientitel</dc:title>
</cp:coreProperties>
</file>